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media/image27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31.png" ContentType="image/png"/>
  <Override PartName="/ppt/media/image29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34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41.png" ContentType="image/png"/>
  <Override PartName="/ppt/media/image9.png" ContentType="image/png"/>
  <Override PartName="/ppt/media/image39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30.png" ContentType="image/png"/>
  <Override PartName="/ppt/media/image4.jpeg" ContentType="image/jpeg"/>
  <Override PartName="/ppt/media/image40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6.png" ContentType="image/png"/>
  <Override PartName="/ppt/media/image36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</p:sldMasterIdLst>
  <p:sldIdLst>
    <p:sldId id="256" r:id="rId18"/>
    <p:sldId id="257" r:id="rId19"/>
    <p:sldId id="258" r:id="rId20"/>
    <p:sldId id="259" r:id="rId21"/>
    <p:sldId id="260" r:id="rId22"/>
    <p:sldId id="261" r:id="rId23"/>
    <p:sldId id="262" r:id="rId24"/>
    <p:sldId id="263" r:id="rId25"/>
    <p:sldId id="264" r:id="rId26"/>
    <p:sldId id="265" r:id="rId27"/>
    <p:sldId id="266" r:id="rId28"/>
    <p:sldId id="267" r:id="rId29"/>
    <p:sldId id="268" r:id="rId30"/>
    <p:sldId id="269" r:id="rId31"/>
    <p:sldId id="270" r:id="rId32"/>
    <p:sldId id="271" r:id="rId33"/>
    <p:sldId id="272" r:id="rId34"/>
    <p:sldId id="273" r:id="rId35"/>
    <p:sldId id="274" r:id="rId36"/>
    <p:sldId id="275" r:id="rId37"/>
    <p:sldId id="276" r:id="rId38"/>
    <p:sldId id="277" r:id="rId39"/>
    <p:sldId id="278" r:id="rId40"/>
    <p:sldId id="279" r:id="rId41"/>
    <p:sldId id="280" r:id="rId42"/>
    <p:sldId id="281" r:id="rId43"/>
    <p:sldId id="282" r:id="rId44"/>
    <p:sldId id="283" r:id="rId45"/>
    <p:sldId id="284" r:id="rId46"/>
    <p:sldId id="285" r:id="rId47"/>
    <p:sldId id="286" r:id="rId48"/>
    <p:sldId id="287" r:id="rId49"/>
    <p:sldId id="288" r:id="rId50"/>
    <p:sldId id="289" r:id="rId51"/>
    <p:sldId id="290" r:id="rId52"/>
    <p:sldId id="291" r:id="rId53"/>
    <p:sldId id="292" r:id="rId54"/>
    <p:sldId id="293" r:id="rId55"/>
    <p:sldId id="294" r:id="rId56"/>
    <p:sldId id="295" r:id="rId57"/>
    <p:sldId id="296" r:id="rId58"/>
    <p:sldId id="297" r:id="rId59"/>
    <p:sldId id="298" r:id="rId60"/>
    <p:sldId id="299" r:id="rId61"/>
    <p:sldId id="300" r:id="rId62"/>
    <p:sldId id="301" r:id="rId63"/>
    <p:sldId id="302" r:id="rId64"/>
    <p:sldId id="303" r:id="rId65"/>
    <p:sldId id="304" r:id="rId66"/>
    <p:sldId id="305" r:id="rId67"/>
    <p:sldId id="306" r:id="rId68"/>
    <p:sldId id="307" r:id="rId6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" Target="slides/slide1.xml"/><Relationship Id="rId19" Type="http://schemas.openxmlformats.org/officeDocument/2006/relationships/slide" Target="slides/slide2.xml"/><Relationship Id="rId20" Type="http://schemas.openxmlformats.org/officeDocument/2006/relationships/slide" Target="slides/slide3.xml"/><Relationship Id="rId21" Type="http://schemas.openxmlformats.org/officeDocument/2006/relationships/slide" Target="slides/slide4.xml"/><Relationship Id="rId22" Type="http://schemas.openxmlformats.org/officeDocument/2006/relationships/slide" Target="slides/slide5.xml"/><Relationship Id="rId23" Type="http://schemas.openxmlformats.org/officeDocument/2006/relationships/slide" Target="slides/slide6.xml"/><Relationship Id="rId24" Type="http://schemas.openxmlformats.org/officeDocument/2006/relationships/slide" Target="slides/slide7.xml"/><Relationship Id="rId25" Type="http://schemas.openxmlformats.org/officeDocument/2006/relationships/slide" Target="slides/slide8.xml"/><Relationship Id="rId26" Type="http://schemas.openxmlformats.org/officeDocument/2006/relationships/slide" Target="slides/slide9.xml"/><Relationship Id="rId27" Type="http://schemas.openxmlformats.org/officeDocument/2006/relationships/slide" Target="slides/slide10.xml"/><Relationship Id="rId28" Type="http://schemas.openxmlformats.org/officeDocument/2006/relationships/slide" Target="slides/slide11.xml"/><Relationship Id="rId29" Type="http://schemas.openxmlformats.org/officeDocument/2006/relationships/slide" Target="slides/slide12.xml"/><Relationship Id="rId30" Type="http://schemas.openxmlformats.org/officeDocument/2006/relationships/slide" Target="slides/slide13.xml"/><Relationship Id="rId31" Type="http://schemas.openxmlformats.org/officeDocument/2006/relationships/slide" Target="slides/slide14.xml"/><Relationship Id="rId32" Type="http://schemas.openxmlformats.org/officeDocument/2006/relationships/slide" Target="slides/slide15.xml"/><Relationship Id="rId33" Type="http://schemas.openxmlformats.org/officeDocument/2006/relationships/slide" Target="slides/slide16.xml"/><Relationship Id="rId34" Type="http://schemas.openxmlformats.org/officeDocument/2006/relationships/slide" Target="slides/slide17.xml"/><Relationship Id="rId35" Type="http://schemas.openxmlformats.org/officeDocument/2006/relationships/slide" Target="slides/slide18.xml"/><Relationship Id="rId36" Type="http://schemas.openxmlformats.org/officeDocument/2006/relationships/slide" Target="slides/slide19.xml"/><Relationship Id="rId37" Type="http://schemas.openxmlformats.org/officeDocument/2006/relationships/slide" Target="slides/slide20.xml"/><Relationship Id="rId38" Type="http://schemas.openxmlformats.org/officeDocument/2006/relationships/slide" Target="slides/slide21.xml"/><Relationship Id="rId39" Type="http://schemas.openxmlformats.org/officeDocument/2006/relationships/slide" Target="slides/slide22.xml"/><Relationship Id="rId40" Type="http://schemas.openxmlformats.org/officeDocument/2006/relationships/slide" Target="slides/slide23.xml"/><Relationship Id="rId41" Type="http://schemas.openxmlformats.org/officeDocument/2006/relationships/slide" Target="slides/slide24.xml"/><Relationship Id="rId42" Type="http://schemas.openxmlformats.org/officeDocument/2006/relationships/slide" Target="slides/slide25.xml"/><Relationship Id="rId43" Type="http://schemas.openxmlformats.org/officeDocument/2006/relationships/slide" Target="slides/slide26.xml"/><Relationship Id="rId44" Type="http://schemas.openxmlformats.org/officeDocument/2006/relationships/slide" Target="slides/slide27.xml"/><Relationship Id="rId45" Type="http://schemas.openxmlformats.org/officeDocument/2006/relationships/slide" Target="slides/slide28.xml"/><Relationship Id="rId46" Type="http://schemas.openxmlformats.org/officeDocument/2006/relationships/slide" Target="slides/slide29.xml"/><Relationship Id="rId47" Type="http://schemas.openxmlformats.org/officeDocument/2006/relationships/slide" Target="slides/slide30.xml"/><Relationship Id="rId48" Type="http://schemas.openxmlformats.org/officeDocument/2006/relationships/slide" Target="slides/slide31.xml"/><Relationship Id="rId49" Type="http://schemas.openxmlformats.org/officeDocument/2006/relationships/slide" Target="slides/slide32.xml"/><Relationship Id="rId50" Type="http://schemas.openxmlformats.org/officeDocument/2006/relationships/slide" Target="slides/slide33.xml"/><Relationship Id="rId51" Type="http://schemas.openxmlformats.org/officeDocument/2006/relationships/slide" Target="slides/slide34.xml"/><Relationship Id="rId52" Type="http://schemas.openxmlformats.org/officeDocument/2006/relationships/slide" Target="slides/slide35.xml"/><Relationship Id="rId53" Type="http://schemas.openxmlformats.org/officeDocument/2006/relationships/slide" Target="slides/slide36.xml"/><Relationship Id="rId54" Type="http://schemas.openxmlformats.org/officeDocument/2006/relationships/slide" Target="slides/slide37.xml"/><Relationship Id="rId55" Type="http://schemas.openxmlformats.org/officeDocument/2006/relationships/slide" Target="slides/slide38.xml"/><Relationship Id="rId56" Type="http://schemas.openxmlformats.org/officeDocument/2006/relationships/slide" Target="slides/slide39.xml"/><Relationship Id="rId57" Type="http://schemas.openxmlformats.org/officeDocument/2006/relationships/slide" Target="slides/slide40.xml"/><Relationship Id="rId58" Type="http://schemas.openxmlformats.org/officeDocument/2006/relationships/slide" Target="slides/slide41.xml"/><Relationship Id="rId59" Type="http://schemas.openxmlformats.org/officeDocument/2006/relationships/slide" Target="slides/slide42.xml"/><Relationship Id="rId60" Type="http://schemas.openxmlformats.org/officeDocument/2006/relationships/slide" Target="slides/slide43.xml"/><Relationship Id="rId61" Type="http://schemas.openxmlformats.org/officeDocument/2006/relationships/slide" Target="slides/slide44.xml"/><Relationship Id="rId62" Type="http://schemas.openxmlformats.org/officeDocument/2006/relationships/slide" Target="slides/slide45.xml"/><Relationship Id="rId63" Type="http://schemas.openxmlformats.org/officeDocument/2006/relationships/slide" Target="slides/slide46.xml"/><Relationship Id="rId64" Type="http://schemas.openxmlformats.org/officeDocument/2006/relationships/slide" Target="slides/slide47.xml"/><Relationship Id="rId65" Type="http://schemas.openxmlformats.org/officeDocument/2006/relationships/slide" Target="slides/slide48.xml"/><Relationship Id="rId66" Type="http://schemas.openxmlformats.org/officeDocument/2006/relationships/slide" Target="slides/slide49.xml"/><Relationship Id="rId67" Type="http://schemas.openxmlformats.org/officeDocument/2006/relationships/slide" Target="slides/slide50.xml"/><Relationship Id="rId68" Type="http://schemas.openxmlformats.org/officeDocument/2006/relationships/slide" Target="slides/slide51.xml"/><Relationship Id="rId69" Type="http://schemas.openxmlformats.org/officeDocument/2006/relationships/slide" Target="slides/slide52.xml"/><Relationship Id="rId7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7977EC-3985-49D1-B5E0-C7D0E8BFD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F6BC1-8CEE-4516-A654-A60684F7B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35064-AEBA-4837-B657-1B1571ACC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6F4BDE-D03D-4508-9391-0D35CB21D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760013-847A-4DF7-8135-F756C3BBC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61C03-7D08-4D7E-8C2A-E267A8A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1B2DA4-AEAC-4E11-9A88-6FAF09148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1EE010-B8ED-44F7-89C6-BF1A55FF2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F1B39E-FA54-436D-9491-77F4C913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53E9F6-328E-4DA4-9DB4-E63A8B34F1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E502F-3BAB-453D-9D03-24C32FFE9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F7D3BF-5E9E-41E6-A2FF-0A12373F2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B1625-720D-4101-BB03-2AF7DB4C4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E2F36-7FB5-4591-88FA-D0E64106A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464A73-0FBE-4A6C-BB67-94617AAE2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5A6F38-902F-41EF-B09C-3BB47AD27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5C27D3E-EE82-4E8C-B223-3F68B52B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10CB3C-F175-4F5B-97D0-0FB319C2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03C962-AD58-4D70-9193-2F93CB2B2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6921D-6A1E-4A31-B01A-1CE44C7C5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8EF5B-DFC1-4256-9C69-4207FE24A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0101E3-39F5-418C-96C0-0171602FC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82A06C-C39B-4201-B9EF-4C482F2E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EBF3DD-605D-4ED4-BE46-F5CD1F6A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BF435-4B9F-4FEA-83E0-332E6601B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09122A-58BC-47D9-9AD9-3A4A8FAB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097C0A-CABD-4D77-B395-6D32C87F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AEBD1-AACD-403F-A41D-ADA69DB3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AF07F8-0C0E-452E-83BF-7598BE5B9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35B2CFF-543E-4FA1-B43A-1756D0CDF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68EF-4773-4579-9CD5-36FE8DB13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00E43-A931-4B7B-919B-8DA0F2194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FB32D-412E-4D3E-B620-38D8E62D0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DE5988-D180-4723-955C-982158FC1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BF50F8-4BC7-4D08-B34E-424B9FA2F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3BAD7D-44CE-49A1-86F5-A8690FCD9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41A35D-9C31-4936-A241-6AF8CD6E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3E3A78-4D14-41E9-8B3E-D9FACCCF8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85B704-DA26-4C35-ABD6-04BAFAE78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A81F9E-3384-4989-886F-C7176CFFC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D2CCBF-64B3-4E40-8444-BB562DAA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13E6-593E-4339-9EB0-09D26E751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789D7F-1302-49AB-97BD-1BE770FB9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D059D-B1C9-4064-81EB-CA50CAFD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7DE6D-1024-45E5-B744-3E7E8DD5D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49E632-DF96-431E-B502-A0D6DC831D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02C0E1-4729-462E-BA67-0E7430810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F5D9DF5-A370-42E5-B82A-6AB5682D0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7E2AD35-578C-4D70-ABF3-4CCC081D9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48379F-7062-47FA-A9D2-E9354829E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C58655-248F-40C3-94C0-BC03412B8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54DCA2-02F5-47DE-BACE-4EED27923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46A6-608D-4EB9-8EF6-DC95F6B3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FE9C79-6389-432D-B283-09053209A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3F62F0-2982-4CD6-830D-D547BEAFF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2DAABD-1875-4EFC-9239-2AFAE651C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C907DA-D4DB-4A04-BC85-732E6BA9D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33CACD-E47F-4DAB-A01E-024B82CB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D66FD9-CBF0-4B33-B814-6AB09FAAD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951D1A-58E2-4CD9-9E9A-E6ABD35B0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41A01E-F51C-4C7F-BCEC-92112587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DAFA90-78EF-462C-A892-9A11BACC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7D11DA-0E94-4FA1-B34F-092612EBD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8387-80D8-4B67-BE66-BF9996C20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2EDC90-78C2-438B-90D4-F0AA09A2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EBF60-9DCC-4F8F-8830-305381937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676C87-B927-4BF2-8EC8-B81034176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723A9-47B3-4E33-AFDB-99B3C449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5FA6B4-FCBA-4EB8-8779-75B66C4D8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1268D2-E8C1-48A6-9CDD-D0B053089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78D2D2-ACBD-4401-82F2-E8BAE2E97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6DDFB7-59CD-48AB-A846-A0B5933E8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E719E9-29AD-4EEE-8860-2842D00AA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4C5438-1F1D-4975-8194-09B9851A2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86CE-A0B3-4DC4-B6C1-E8F17714B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7C0E3D-E409-4A05-B99A-585EFFB56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CD3EEB-3A88-4731-A29B-F1C7E5DF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91664CA-7C01-497B-A956-53D5A3FEF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2E2C90-FBF8-403E-928B-4C30FB020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799E33-7DA4-4268-A3AB-22944C118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214121-C465-44D7-9B37-659626A14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EC97C-166C-455D-AC65-67108505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8C2255-3166-4CEA-8BD2-165A845F8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DB54DC-94AD-454A-A923-5ABDD2BE6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11FD9BF-26AB-4A0B-97C4-553E36C16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1A3C-1656-4989-A503-3911BCCB9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06C335-CF5A-45BD-899C-6A6BD8990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491ECC-1308-436D-8A55-C0F9AF92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E48E50E-6D83-406D-9147-F29E8A17E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DA2912-2481-4717-BBAA-B9CC3D8ED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B3C98A-7319-4C50-A94D-0AA9609BF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59F60-505D-45B9-8A98-45A1CAAA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DB055E5-7101-4058-BE9F-181298EE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E44E40-A5FF-489D-904D-15DACE3D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4B06EF-4FED-4B65-BD7B-E0D535564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02AFDC-B9A6-48B5-9A0C-7C723886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0563-EE43-4229-ACBA-D8F4DADC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3BDEB7-CB2F-4A04-9FDE-8AFD569A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B8967B-ADD0-414A-99DB-AC5ABE94F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449B94-F0A8-4B6A-9127-BC62EDE0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3FED-9320-4ACC-A0B0-51CC91CCE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1234-A945-4CE2-8C11-2133F51CA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79A1-F674-4028-A59A-E3D8384A6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BAA6-4D47-41AE-AE0C-5F724A100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2EC-66F3-4019-8A65-AB8CE97C4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3D47A-D028-48E9-B876-E5B15384D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B7FF3-9C4B-4A87-AA6A-25972FF84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5605-9849-4417-AD3E-5F0D9592E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03081-8E73-4944-8829-975FC2C7B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F685C-40F3-422A-B4E8-38820B6AD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67CCC-C71D-41AA-994A-84A5076B8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A8396A-4FA8-4BF2-9141-80F3A6B36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E6C7A-7069-4BCB-B0F9-1EC4277C5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C4467-1110-4F72-AB92-3C351ACB6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C832-F0B3-41AC-A1B4-598EE6AB9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A0BC6-AA10-4B2C-9DD2-B2E2BD5B6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D849C-E483-4457-B03D-A717979A3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34058-3574-4EFA-9D9F-CFF1BD351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E9C976-CD37-4B7C-B865-11AB89F54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F1A988-AB3D-422A-AD24-150AD2574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E391A6-B404-4D6F-9529-DCD03B08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D74FE-FC4D-4BA4-874F-7523ED6FA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D8FFBC-3550-4418-9F98-AF6F216D5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84186-FEC8-4A43-86A5-3474AACFE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9C1562-9C0B-47EC-9D89-4F2143F5F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ACA911-8443-4855-B2E0-4A72BA230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1BB25E-18B0-4746-8FE6-8CB2EF7AD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DFED85-4E29-4CD2-A710-42390F726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910B9-7064-473C-B969-AB44EC0E8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A913C7-AF38-45B2-8CDB-79F346C2E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D6A30C-0301-476E-BDC1-01583842A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EB25E6-F0C1-41D6-AF22-3F2BDFA5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C9F66C-4977-419B-A5F7-0056EE07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AC680B-D1DE-4323-8457-269932FC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DD827-00FA-4265-B0E8-74B5B5EE7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4CBB4E-BA25-4930-B54F-C315CBA81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17B3A6-494E-42F5-9E7E-FCB196258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F4434-5F59-4775-B8A7-3BAC381B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B0CEA0-F6C8-42EB-9237-912E3622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EB34C8-77E0-485B-9251-3CE1A696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DED01-0BD9-4C45-871E-F0925A6AF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A4D97A-4528-4255-9D06-76ACBD80F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54851B-1757-476A-A267-88DD563A0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CA46CC-C41D-45FC-BD94-2E12985C9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48FE4-29C1-45BE-849E-5BEF43BDE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4CF87-E7F9-4CFF-A2BE-D99F3DEA6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0741E-0816-4B33-9348-C07008959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6BBFCF-FA1C-4F4B-993C-96E38C8A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7B008A-F448-443A-A6D2-22A1AE9A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33BBB7-8C34-4BA6-99E9-7381D6675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CA6E3-EF8B-4549-B1FB-6B3562D3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034296-A8C9-4893-A0CF-AF3406F0AE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A59AEB-D840-401A-AEF1-D379A3B55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F8EACA-A21A-4171-91C2-0A6A15EDC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7E67DF-64B6-475E-A949-B3906D02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45A5-7190-4A60-81CE-24D0E6C1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aa71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255E7B-A8BF-4A5F-995E-976607F98BB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22A5BF7-A04B-4396-913D-F3450C3953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A06A3B1-92CA-4004-8941-343CD225A2F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DAD664-373D-41F4-A07C-F577559D774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D775F5-3651-4C09-AB82-60D8258A611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99161B7-5B42-41BA-948E-81CF1CA71D5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4897D67-DFC5-4DAD-921D-6FAD866063B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3037F63-4FAD-46EA-A561-40BDFF1573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7" descr="EEN-ppt-background-inside-orange"/>
          <p:cNvPicPr/>
          <p:nvPr/>
        </p:nvPicPr>
        <p:blipFill>
          <a:blip r:embed="rId2"/>
          <a:stretch/>
        </p:blipFill>
        <p:spPr>
          <a:xfrm>
            <a:off x="0" y="0"/>
            <a:ext cx="9144000" cy="1230480"/>
          </a:xfrm>
          <a:prstGeom prst="rect">
            <a:avLst/>
          </a:prstGeom>
          <a:ln w="0">
            <a:noFill/>
          </a:ln>
        </p:spPr>
      </p:pic>
      <p:grpSp>
        <p:nvGrpSpPr>
          <p:cNvPr id="80" name="Group 22"/>
          <p:cNvGrpSpPr/>
          <p:nvPr/>
        </p:nvGrpSpPr>
        <p:grpSpPr>
          <a:xfrm>
            <a:off x="3352680" y="228600"/>
            <a:ext cx="5562720" cy="263520"/>
            <a:chOff x="3352680" y="228600"/>
            <a:chExt cx="5562720" cy="263520"/>
          </a:xfrm>
        </p:grpSpPr>
        <p:sp>
          <p:nvSpPr>
            <p:cNvPr id="81" name=""/>
            <p:cNvSpPr/>
            <p:nvPr/>
          </p:nvSpPr>
          <p:spPr>
            <a:xfrm>
              <a:off x="3352680" y="228600"/>
              <a:ext cx="556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aa7100"/>
                  </a:solidFill>
                  <a:latin typeface="Arial"/>
                  <a:ea typeface="Arial Unicode MS"/>
                </a:rPr>
                <a:t>Enterprise Europe Network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aa71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17" descr="EEN-ppt-background-inside-orange"/>
          <p:cNvPicPr/>
          <p:nvPr/>
        </p:nvPicPr>
        <p:blipFill>
          <a:blip r:embed="rId2"/>
          <a:stretch/>
        </p:blipFill>
        <p:spPr>
          <a:xfrm>
            <a:off x="0" y="0"/>
            <a:ext cx="9144000" cy="1230480"/>
          </a:xfrm>
          <a:prstGeom prst="rect">
            <a:avLst/>
          </a:prstGeom>
          <a:ln w="0">
            <a:noFill/>
          </a:ln>
        </p:spPr>
      </p:pic>
      <p:grpSp>
        <p:nvGrpSpPr>
          <p:cNvPr id="121" name="Group 22"/>
          <p:cNvGrpSpPr/>
          <p:nvPr/>
        </p:nvGrpSpPr>
        <p:grpSpPr>
          <a:xfrm>
            <a:off x="3352680" y="228600"/>
            <a:ext cx="5562720" cy="263520"/>
            <a:chOff x="3352680" y="228600"/>
            <a:chExt cx="5562720" cy="263520"/>
          </a:xfrm>
        </p:grpSpPr>
        <p:sp>
          <p:nvSpPr>
            <p:cNvPr id="122" name=""/>
            <p:cNvSpPr/>
            <p:nvPr/>
          </p:nvSpPr>
          <p:spPr>
            <a:xfrm>
              <a:off x="3352680" y="228600"/>
              <a:ext cx="5562720" cy="26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aa7100"/>
                  </a:solidFill>
                  <a:latin typeface="Arial"/>
                  <a:ea typeface="Arial Unicode MS"/>
                </a:rPr>
                <a:t>Enterprise Europe Network 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aa71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62" name="Rectangle 3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bbe0e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3" name="Group 4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64" name="Line 5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Line 6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Line 7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Line 8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Line 9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Line 10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Line 11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12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13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14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15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6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7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Line 18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Line 19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Line 20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Line 21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Line 22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Line 23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Line 24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Line 25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Line 26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Line 27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Line 28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Line 29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Line 30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Line 31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Line 32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Line 33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34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Line 35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Line 36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Line 37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Line 38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Line 39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Line 40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Line 41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Line 42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Line 43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Line 44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Line 45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Line 46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Line 47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Line 48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Line 49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Line 50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Line 51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Line 52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Line 53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Line 54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Line 55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Line 56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Line 57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Line 58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59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Line 60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Line 61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Line 62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Line 63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Line 64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Line 65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Line 66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Line 67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Line 68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69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Line 70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Line 71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Line 72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Line 73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Line 74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Line 75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Line 76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Line 77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Line 78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Line 79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Line 80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Line 81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Line 82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Line 83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Line 84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Line 85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Line 86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87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Line 88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Line 89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Line 90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Line 91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Line 92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Line 93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Line 94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Line 95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Line 96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97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Line 98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Line 99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" name="Line 100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" name="Line 101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Line 102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62" name="Rectangle 108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Rectangle 109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a71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aa71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25142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b93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7080" indent="-187200">
              <a:spcBef>
                <a:spcPts val="799"/>
              </a:spcBef>
              <a:buClr>
                <a:srgbClr val="aa71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1840" indent="-187200">
              <a:spcBef>
                <a:spcPts val="799"/>
              </a:spcBef>
              <a:buClr>
                <a:srgbClr val="6b6b6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6960" indent="-187200">
              <a:spcBef>
                <a:spcPts val="799"/>
              </a:spcBef>
              <a:buClr>
                <a:srgbClr val="aa71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470845E-5843-4F39-888D-ECB35ACAB8B2}" type="slidenum">
              <a:rPr b="0" lang="it-IT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AD783B3-9C1F-4E92-8428-E6D5651F71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B890717-6DF6-48D1-9F75-434EE6F0A5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2CD83BB-E2AA-4B9A-A6B5-F97631B7809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marL="216000"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8B664A8-7F0C-41F7-ABF9-30631EA96D17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7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7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7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7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7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7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7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7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7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7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7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7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7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7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7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7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7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7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7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7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7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7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7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7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6" name="Immagine 3" descr=""/>
          <p:cNvPicPr/>
          <p:nvPr/>
        </p:nvPicPr>
        <p:blipFill>
          <a:blip r:embed="rId1"/>
          <a:stretch/>
        </p:blipFill>
        <p:spPr>
          <a:xfrm>
            <a:off x="587520" y="393840"/>
            <a:ext cx="1365120" cy="749160"/>
          </a:xfrm>
          <a:prstGeom prst="rect">
            <a:avLst/>
          </a:prstGeom>
          <a:ln w="0">
            <a:noFill/>
          </a:ln>
        </p:spPr>
      </p:pic>
      <p:pic>
        <p:nvPicPr>
          <p:cNvPr id="757" name="Immagine 4" descr=""/>
          <p:cNvPicPr/>
          <p:nvPr/>
        </p:nvPicPr>
        <p:blipFill>
          <a:blip r:embed="rId2"/>
          <a:stretch/>
        </p:blipFill>
        <p:spPr>
          <a:xfrm>
            <a:off x="2776680" y="404640"/>
            <a:ext cx="1265040" cy="704880"/>
          </a:xfrm>
          <a:prstGeom prst="rect">
            <a:avLst/>
          </a:prstGeom>
          <a:ln w="0">
            <a:noFill/>
          </a:ln>
        </p:spPr>
      </p:pic>
      <p:pic>
        <p:nvPicPr>
          <p:cNvPr id="758" name="Immagine 5" descr=""/>
          <p:cNvPicPr/>
          <p:nvPr/>
        </p:nvPicPr>
        <p:blipFill>
          <a:blip r:embed="rId3"/>
          <a:stretch/>
        </p:blipFill>
        <p:spPr>
          <a:xfrm>
            <a:off x="5364000" y="393840"/>
            <a:ext cx="379440" cy="715680"/>
          </a:xfrm>
          <a:prstGeom prst="rect">
            <a:avLst/>
          </a:prstGeom>
          <a:ln w="0">
            <a:noFill/>
          </a:ln>
        </p:spPr>
      </p:pic>
      <p:pic>
        <p:nvPicPr>
          <p:cNvPr id="759" name="Immagine 6" descr=""/>
          <p:cNvPicPr/>
          <p:nvPr/>
        </p:nvPicPr>
        <p:blipFill>
          <a:blip r:embed="rId4"/>
          <a:stretch/>
        </p:blipFill>
        <p:spPr>
          <a:xfrm>
            <a:off x="7451640" y="393840"/>
            <a:ext cx="777960" cy="8143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60" name=""/>
          <p:cNvGraphicFramePr/>
          <p:nvPr/>
        </p:nvGraphicFramePr>
        <p:xfrm>
          <a:off x="495360" y="5673600"/>
          <a:ext cx="8047080" cy="893880"/>
        </p:xfrm>
        <a:graphic>
          <a:graphicData uri="http://schemas.openxmlformats.org/drawingml/2006/table">
            <a:tbl>
              <a:tblPr/>
              <a:tblGrid>
                <a:gridCol w="8047080"/>
              </a:tblGrid>
              <a:tr h="893880">
                <a:tc>
                  <a:txBody>
                    <a:bodyPr lIns="51480" rIns="5148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0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La video-lezione è stata realizzata nell’ambito del progetto ANCI “Uno strumento operativo per il rafforzamento della governance multilivello: il supporto alle autonomie locali italiane nella fase di formazione e attuazione delle politiche europee” finanziato dal Programma Azione Coesione Complementare al PON Governance e capacità istituzionale 2014/2020 Fondo FESR-FSE Asse 2 – OS 2.1 Azione 2.1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1480" marR="51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1" name="Text Box 4"/>
          <p:cNvSpPr/>
          <p:nvPr/>
        </p:nvSpPr>
        <p:spPr>
          <a:xfrm>
            <a:off x="1835280" y="5084640"/>
            <a:ext cx="547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66"/>
                </a:solidFill>
                <a:latin typeface="Arial"/>
              </a:rPr>
              <a:t>Ing. Guido Mattei Ph.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2" name="Picture 2" descr=""/>
          <p:cNvPicPr/>
          <p:nvPr/>
        </p:nvPicPr>
        <p:blipFill>
          <a:blip r:embed="rId5"/>
          <a:stretch/>
        </p:blipFill>
        <p:spPr>
          <a:xfrm>
            <a:off x="2789280" y="2698920"/>
            <a:ext cx="3583080" cy="2300040"/>
          </a:xfrm>
          <a:prstGeom prst="rect">
            <a:avLst/>
          </a:prstGeom>
          <a:ln w="0">
            <a:noFill/>
          </a:ln>
        </p:spPr>
      </p:pic>
      <p:sp>
        <p:nvSpPr>
          <p:cNvPr id="763" name="Text Box 4"/>
          <p:cNvSpPr/>
          <p:nvPr/>
        </p:nvSpPr>
        <p:spPr>
          <a:xfrm>
            <a:off x="1908000" y="1690560"/>
            <a:ext cx="547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66"/>
                </a:solidFill>
                <a:latin typeface="Arial"/>
              </a:rPr>
              <a:t>Il Bando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2" name="Picture 2" descr=""/>
          <p:cNvPicPr/>
          <p:nvPr/>
        </p:nvPicPr>
        <p:blipFill>
          <a:blip r:embed="rId1"/>
          <a:stretch/>
        </p:blipFill>
        <p:spPr>
          <a:xfrm>
            <a:off x="976320" y="1052640"/>
            <a:ext cx="7124760" cy="4187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3" name="Picture 2" descr=""/>
          <p:cNvPicPr/>
          <p:nvPr/>
        </p:nvPicPr>
        <p:blipFill>
          <a:blip r:embed="rId1"/>
          <a:stretch/>
        </p:blipFill>
        <p:spPr>
          <a:xfrm>
            <a:off x="1116000" y="1268280"/>
            <a:ext cx="7116840" cy="393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4" name="Picture 2" descr=""/>
          <p:cNvPicPr/>
          <p:nvPr/>
        </p:nvPicPr>
        <p:blipFill>
          <a:blip r:embed="rId1"/>
          <a:stretch/>
        </p:blipFill>
        <p:spPr>
          <a:xfrm>
            <a:off x="1162080" y="1125360"/>
            <a:ext cx="6794640" cy="4445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7" name="Picture 2" descr=""/>
          <p:cNvPicPr/>
          <p:nvPr/>
        </p:nvPicPr>
        <p:blipFill>
          <a:blip r:embed="rId1"/>
          <a:stretch/>
        </p:blipFill>
        <p:spPr>
          <a:xfrm>
            <a:off x="179280" y="981000"/>
            <a:ext cx="887112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0" name="Picture 2" descr=""/>
          <p:cNvPicPr/>
          <p:nvPr/>
        </p:nvPicPr>
        <p:blipFill>
          <a:blip r:embed="rId1"/>
          <a:stretch/>
        </p:blipFill>
        <p:spPr>
          <a:xfrm>
            <a:off x="108000" y="907920"/>
            <a:ext cx="8861400" cy="490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3" name="Picture 5" descr=""/>
          <p:cNvPicPr/>
          <p:nvPr/>
        </p:nvPicPr>
        <p:blipFill>
          <a:blip r:embed="rId1"/>
          <a:stretch/>
        </p:blipFill>
        <p:spPr>
          <a:xfrm>
            <a:off x="41400" y="836640"/>
            <a:ext cx="89391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179280" y="1170000"/>
            <a:ext cx="881388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324000" y="1235160"/>
            <a:ext cx="856584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2" name="Picture 2" descr=""/>
          <p:cNvPicPr/>
          <p:nvPr/>
        </p:nvPicPr>
        <p:blipFill>
          <a:blip r:embed="rId1"/>
          <a:stretch/>
        </p:blipFill>
        <p:spPr>
          <a:xfrm>
            <a:off x="250920" y="1117440"/>
            <a:ext cx="8702640" cy="48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170028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Nuove priorità ambientali 2012- 201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4" name="Picture 2" descr=""/>
          <p:cNvPicPr/>
          <p:nvPr/>
        </p:nvPicPr>
        <p:blipFill>
          <a:blip r:embed="rId1"/>
          <a:stretch/>
        </p:blipFill>
        <p:spPr>
          <a:xfrm>
            <a:off x="1979640" y="1100160"/>
            <a:ext cx="6105600" cy="53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4" name="Picture 2" descr=""/>
          <p:cNvPicPr/>
          <p:nvPr/>
        </p:nvPicPr>
        <p:blipFill>
          <a:blip r:embed="rId1"/>
          <a:stretch/>
        </p:blipFill>
        <p:spPr>
          <a:xfrm>
            <a:off x="0" y="1409760"/>
            <a:ext cx="9144000" cy="4611600"/>
          </a:xfrm>
          <a:prstGeom prst="rect">
            <a:avLst/>
          </a:prstGeom>
          <a:ln w="0">
            <a:noFill/>
          </a:ln>
        </p:spPr>
      </p:pic>
      <p:pic>
        <p:nvPicPr>
          <p:cNvPr id="765" name="Picture 3" descr=""/>
          <p:cNvPicPr/>
          <p:nvPr/>
        </p:nvPicPr>
        <p:blipFill>
          <a:blip r:embed="rId2"/>
          <a:stretch/>
        </p:blipFill>
        <p:spPr>
          <a:xfrm>
            <a:off x="1581120" y="765000"/>
            <a:ext cx="5981760" cy="381240"/>
          </a:xfrm>
          <a:prstGeom prst="rect">
            <a:avLst/>
          </a:prstGeom>
          <a:ln w="0">
            <a:noFill/>
          </a:ln>
        </p:spPr>
      </p:pic>
      <p:sp>
        <p:nvSpPr>
          <p:cNvPr id="76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7D57625-4B78-4C7A-A022-D3B2396B5AB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ttangolo 1"/>
          <p:cNvSpPr/>
          <p:nvPr/>
        </p:nvSpPr>
        <p:spPr>
          <a:xfrm>
            <a:off x="755640" y="1487520"/>
            <a:ext cx="7848720" cy="351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Lanciato nel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1992 LIFE è l’unico programma dedicato all’ambiente e al clima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, che in questi anni ha assicurato risorse per realizzare interventi nel settore dell’ambiente, della Natura e Biodiversità, della governance e della informazione in materia di ambiente in Europ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Grazie al Programma LIFE sono stati cofinanziati in Europa oltr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4.500 progetti </a:t>
            </a: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che corrispondono a oltre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€ 3.4 miliard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Dotazione finanziaria complessiva programma LIFE 2014-2020: € 3.456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otto programma Ambiente: € 2.59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1" lang="it-IT" sz="2000" spc="-1" strike="noStrike">
                <a:solidFill>
                  <a:srgbClr val="000000"/>
                </a:solidFill>
                <a:latin typeface="Calibri"/>
              </a:rPr>
              <a:t>Sotto programma Azione per il clima: € 86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l programma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5BEE1F-F195-41F0-BE28-D69DA49AE35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ttangolo 1"/>
          <p:cNvSpPr/>
          <p:nvPr/>
        </p:nvSpPr>
        <p:spPr>
          <a:xfrm>
            <a:off x="755640" y="907920"/>
            <a:ext cx="770400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ribuire a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passaggio a un’economia efficient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termini di risorse, con minori emissioni di carbonio, resiliente ai cambiamenti climatic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ontribuire alla protezione e a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miglioramento della qualità dell’ambient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, all’interruzione e all’inversione del processo di perdita di biodiversità, compresi il sostegno alla Rete Natura 2000 e il contrasto al degrado degli ecosistem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igliorare lo sviluppo, l’attuazione e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l’applicazione della politic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e della legislazione ambientale e climatica dell’U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stenere maggiormente la </a:t>
            </a: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governance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mbientale e in materia d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lima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a tutti I livel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ostenere l’attuazione del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7EAP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Obiettivi del Programma LIF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3A5D031-881D-477F-B16F-916F9724F24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ttangolo 1"/>
          <p:cNvSpPr/>
          <p:nvPr/>
        </p:nvSpPr>
        <p:spPr>
          <a:xfrm>
            <a:off x="755640" y="907920"/>
            <a:ext cx="7704000" cy="49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otto programma Ambien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Ambiente ed Uso efficiente delle risorse (ENV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Natura e Biodiversità (NAT, BI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Governance e informazione in materia ambientale (GI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otto programma Azione per il clim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Mitigazione dei cambiamenti climatici (CCM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Adattamento ai cambiamenti climatici (CCA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- Governance e informazione in materia di clima (GI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ue Sotto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5B73C6C-F742-4295-907D-EAB20022FEB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ttangolo 1"/>
          <p:cNvSpPr/>
          <p:nvPr/>
        </p:nvSpPr>
        <p:spPr>
          <a:xfrm>
            <a:off x="719280" y="907920"/>
            <a:ext cx="7705440" cy="470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otto programma Ambiente Priorità tematiche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(vedi Allegato III del Regolamento LIFE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alibri"/>
              <a:buAutoNum type="alphaU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Settore prioritario Ambiente ed uso efficiente delle risor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materia di acqua incluso l’ambiente marin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materi di rifiu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elative all’efficienza nell’uso delle risorse, compreso il suolo, le foreste e l’economia circol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materia di ambiente e salute, comprese le sostanze chimiche e il rumo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materia di qualità dell’aria ed emissioni, compreso l’ambiente urba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ue Sotto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D36BC28-A05A-4F3A-9BE7-A952B73C447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ttangolo 1"/>
          <p:cNvSpPr/>
          <p:nvPr/>
        </p:nvSpPr>
        <p:spPr>
          <a:xfrm>
            <a:off x="719280" y="907920"/>
            <a:ext cx="770544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B. Settore prioritario Natura e Biodiversit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materia di natura: attuazione Direttive 92/43/CEE e 2009/147/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Calibri"/>
              <a:buAutoNum type="alphaLcParenR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materia di Biodiversit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. Settore prioritario Governance e Informazione in materia di ambi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ampagne di informazione, comunicazione e sensibilizzazione in linea con il 7 E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isure di promozione conformità ambie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ue Sotto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1001340-545A-4B4A-8F3D-0EA17B43DE4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ttangolo 1"/>
          <p:cNvSpPr/>
          <p:nvPr/>
        </p:nvSpPr>
        <p:spPr>
          <a:xfrm>
            <a:off x="719280" y="907920"/>
            <a:ext cx="7705440" cy="402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Programma pluriennale 2018 – 2020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(Multi Annual Work Programme - MAWP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I programmi di lavoro pluriennali stabiliscon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 temi delle Priorità tema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e metodologie di selezione, i crite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Calendario indicativo dei ban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a Distribuzione dei fondi per priorità tematica e per tipologia di finanziamento nell’ambito di ciascun sottoprogram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97F3BA-39AD-496D-8A9B-76E619E1898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Fascicoli di candidatu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Picture 2" descr=""/>
          <p:cNvPicPr/>
          <p:nvPr/>
        </p:nvPicPr>
        <p:blipFill>
          <a:blip r:embed="rId1"/>
          <a:stretch/>
        </p:blipFill>
        <p:spPr>
          <a:xfrm>
            <a:off x="1179360" y="2852640"/>
            <a:ext cx="6524640" cy="1800360"/>
          </a:xfrm>
          <a:prstGeom prst="rect">
            <a:avLst/>
          </a:prstGeom>
          <a:ln w="0">
            <a:noFill/>
          </a:ln>
        </p:spPr>
      </p:pic>
      <p:sp>
        <p:nvSpPr>
          <p:cNvPr id="83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09C17A9-690F-4B07-B42D-296DE47A6D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5" name="Picture 3" descr=""/>
          <p:cNvPicPr/>
          <p:nvPr/>
        </p:nvPicPr>
        <p:blipFill>
          <a:blip r:embed="rId1"/>
          <a:stretch/>
        </p:blipFill>
        <p:spPr>
          <a:xfrm>
            <a:off x="1332000" y="917640"/>
            <a:ext cx="6553080" cy="4968720"/>
          </a:xfrm>
          <a:prstGeom prst="rect">
            <a:avLst/>
          </a:prstGeom>
          <a:ln w="0">
            <a:noFill/>
          </a:ln>
        </p:spPr>
      </p:pic>
      <p:sp>
        <p:nvSpPr>
          <p:cNvPr id="836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E3EBD60-1F3F-42D9-841C-3669C6564B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ue Sotto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8" name="Picture 2" descr=""/>
          <p:cNvPicPr/>
          <p:nvPr/>
        </p:nvPicPr>
        <p:blipFill>
          <a:blip r:embed="rId1"/>
          <a:stretch/>
        </p:blipFill>
        <p:spPr>
          <a:xfrm>
            <a:off x="92160" y="549360"/>
            <a:ext cx="9016920" cy="5327640"/>
          </a:xfrm>
          <a:prstGeom prst="rect">
            <a:avLst/>
          </a:prstGeom>
          <a:ln w="0">
            <a:noFill/>
          </a:ln>
        </p:spPr>
      </p:pic>
      <p:sp>
        <p:nvSpPr>
          <p:cNvPr id="83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D124761-DAA5-4902-A087-946E1859C1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Picture 2" descr=""/>
          <p:cNvPicPr/>
          <p:nvPr/>
        </p:nvPicPr>
        <p:blipFill>
          <a:blip r:embed="rId1"/>
          <a:stretch/>
        </p:blipFill>
        <p:spPr>
          <a:xfrm>
            <a:off x="446040" y="1279440"/>
            <a:ext cx="8518680" cy="4310280"/>
          </a:xfrm>
          <a:prstGeom prst="rect">
            <a:avLst/>
          </a:prstGeom>
          <a:ln w="0">
            <a:noFill/>
          </a:ln>
        </p:spPr>
      </p:pic>
      <p:sp>
        <p:nvSpPr>
          <p:cNvPr id="841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345A8D3-51CE-4F2E-AE7E-518D9253F7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2" descr=""/>
          <p:cNvPicPr/>
          <p:nvPr/>
        </p:nvPicPr>
        <p:blipFill>
          <a:blip r:embed="rId2"/>
          <a:stretch/>
        </p:blipFill>
        <p:spPr>
          <a:xfrm>
            <a:off x="0" y="1268280"/>
            <a:ext cx="9151920" cy="4680000"/>
          </a:xfrm>
          <a:prstGeom prst="rect">
            <a:avLst/>
          </a:prstGeom>
          <a:ln w="0">
            <a:noFill/>
          </a:ln>
        </p:spPr>
      </p:pic>
      <p:sp>
        <p:nvSpPr>
          <p:cNvPr id="76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97CEB84-4DEE-4215-B1CA-CA9DD9889D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2" descr=""/>
          <p:cNvPicPr/>
          <p:nvPr/>
        </p:nvPicPr>
        <p:blipFill>
          <a:blip r:embed="rId1"/>
          <a:stretch/>
        </p:blipFill>
        <p:spPr>
          <a:xfrm>
            <a:off x="154080" y="765000"/>
            <a:ext cx="8835840" cy="4896000"/>
          </a:xfrm>
          <a:prstGeom prst="rect">
            <a:avLst/>
          </a:prstGeom>
          <a:ln w="0">
            <a:noFill/>
          </a:ln>
        </p:spPr>
      </p:pic>
      <p:sp>
        <p:nvSpPr>
          <p:cNvPr id="843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5CFE722-FAEA-4408-BA32-71D85A8D51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4" name="Picture 2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8820360" cy="4446720"/>
          </a:xfrm>
          <a:prstGeom prst="rect">
            <a:avLst/>
          </a:prstGeom>
          <a:ln w="0">
            <a:noFill/>
          </a:ln>
        </p:spPr>
      </p:pic>
      <p:sp>
        <p:nvSpPr>
          <p:cNvPr id="845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EA91E2E-448B-4B37-885C-C2831786A19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6" name="Picture 2" descr=""/>
          <p:cNvPicPr/>
          <p:nvPr/>
        </p:nvPicPr>
        <p:blipFill>
          <a:blip r:embed="rId1"/>
          <a:stretch/>
        </p:blipFill>
        <p:spPr>
          <a:xfrm>
            <a:off x="19080" y="1557360"/>
            <a:ext cx="9105840" cy="3166920"/>
          </a:xfrm>
          <a:prstGeom prst="rect">
            <a:avLst/>
          </a:prstGeom>
          <a:ln w="0">
            <a:noFill/>
          </a:ln>
        </p:spPr>
      </p:pic>
      <p:sp>
        <p:nvSpPr>
          <p:cNvPr id="847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C43A2CD-BF11-4931-BA0D-67B35AA5CFB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2" descr=""/>
          <p:cNvPicPr/>
          <p:nvPr/>
        </p:nvPicPr>
        <p:blipFill>
          <a:blip r:embed="rId1"/>
          <a:stretch/>
        </p:blipFill>
        <p:spPr>
          <a:xfrm>
            <a:off x="14400" y="1628640"/>
            <a:ext cx="9115200" cy="3600720"/>
          </a:xfrm>
          <a:prstGeom prst="rect">
            <a:avLst/>
          </a:prstGeom>
          <a:ln w="0">
            <a:noFill/>
          </a:ln>
        </p:spPr>
      </p:pic>
      <p:sp>
        <p:nvSpPr>
          <p:cNvPr id="849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094C43B-8523-4863-BDAD-16390456C2A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0" name="Picture 2" descr=""/>
          <p:cNvPicPr/>
          <p:nvPr/>
        </p:nvPicPr>
        <p:blipFill>
          <a:blip r:embed="rId1"/>
          <a:stretch/>
        </p:blipFill>
        <p:spPr>
          <a:xfrm>
            <a:off x="179280" y="1773360"/>
            <a:ext cx="8942400" cy="3240000"/>
          </a:xfrm>
          <a:prstGeom prst="rect">
            <a:avLst/>
          </a:prstGeom>
          <a:ln w="0">
            <a:noFill/>
          </a:ln>
        </p:spPr>
      </p:pic>
      <p:sp>
        <p:nvSpPr>
          <p:cNvPr id="851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E6D13F6-E93B-4CB1-8AE6-C5AB75AD437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ue Sotto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108000" y="174600"/>
            <a:ext cx="8856720" cy="6134040"/>
          </a:xfrm>
          <a:prstGeom prst="rect">
            <a:avLst/>
          </a:prstGeom>
          <a:ln w="0">
            <a:noFill/>
          </a:ln>
        </p:spPr>
      </p:pic>
      <p:sp>
        <p:nvSpPr>
          <p:cNvPr id="854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06198A7-5291-474D-9EC8-4C4DF3396C3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Footer Placeholder 4"/>
          <p:cNvSpPr/>
          <p:nvPr/>
        </p:nvSpPr>
        <p:spPr>
          <a:xfrm>
            <a:off x="2411280" y="6356520"/>
            <a:ext cx="46818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Guido Mattei - Università La Sapienza -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Master Europrogettazione - Facoltà Economia  Roma 28/06/20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Due Sottoprogram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7" name="Picture 2" descr=""/>
          <p:cNvPicPr/>
          <p:nvPr/>
        </p:nvPicPr>
        <p:blipFill>
          <a:blip r:embed="rId1"/>
          <a:stretch/>
        </p:blipFill>
        <p:spPr>
          <a:xfrm>
            <a:off x="641520" y="50760"/>
            <a:ext cx="7962840" cy="6670800"/>
          </a:xfrm>
          <a:prstGeom prst="rect">
            <a:avLst/>
          </a:prstGeom>
          <a:ln w="0">
            <a:noFill/>
          </a:ln>
        </p:spPr>
      </p:pic>
      <p:sp>
        <p:nvSpPr>
          <p:cNvPr id="858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FF7A148-9635-40F2-A8F3-78FDBB26C6A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ttangolo 1"/>
          <p:cNvSpPr/>
          <p:nvPr/>
        </p:nvSpPr>
        <p:spPr>
          <a:xfrm>
            <a:off x="719280" y="907920"/>
            <a:ext cx="770544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INDICATORI DI IMPA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l programma LIFE 2014-2020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pone l’enfasi sugli indicatori d’impatto per misurare i risultat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i ogni singolo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gni proposta deve individuare indicatori pertinenti per il progetto e compilare un modulo semplice (file Exc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Se il progetto viene selezionato, i beneficiari dovranno riferire sugl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indicatori chiave di impatto (KPI)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durante e dopo la fine del progetto –&gt; KPI Web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Indicatori sociali ed economici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obbligatori per TUTTI i progetti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D7AAA33-ED2F-4036-B0F2-8FB151EDE99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Rettangolo 1"/>
          <p:cNvSpPr/>
          <p:nvPr/>
        </p:nvSpPr>
        <p:spPr>
          <a:xfrm>
            <a:off x="719280" y="907920"/>
            <a:ext cx="770544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PROGETTI CLOSE TO MARKET (C2M) (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i che propongono nuove soluzioni con benefici ambientali/climatici ed economici o che sono innov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i pronti dal punto di vist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tecnico e commerc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i che implementano soluzioni ambientali/climatiche in condizion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vicine al mercato 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(es: scala industriale e commerciale) durante la vita del prog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i che prevedono attività pre-commerciali e li pianificano durante la fase di applicazione (ad esempio analisi di mercato, piano aziendale, ec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CDA238-8DD2-4B84-A1B7-283D2BB2089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ttangolo 1"/>
          <p:cNvSpPr/>
          <p:nvPr/>
        </p:nvSpPr>
        <p:spPr>
          <a:xfrm>
            <a:off x="719280" y="907920"/>
            <a:ext cx="7705440" cy="425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PROGETTI CLOSE TO MARKET (C2M) (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i che indirizzano le loro soluzioni verso il mercato, compresi 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lient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e considerando la catena di forni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i che conoscono i loro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ncorrenti e vantaggi competitiv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e si posizionano in quel contes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i che mirano alla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commercializzazione a lungo termine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delle loro soluzioni (una tecnologia, un prodotto, un process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rogetti che potrebbero diventare interessanti per gli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"/>
              </a:rPr>
              <a:t>investitori</a:t>
            </a: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 o una banca per finanziament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338390F-08AB-44A8-B5B2-D1453799F2E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1" name="Picture 2" descr=""/>
          <p:cNvPicPr/>
          <p:nvPr/>
        </p:nvPicPr>
        <p:blipFill>
          <a:blip r:embed="rId2"/>
          <a:stretch/>
        </p:blipFill>
        <p:spPr>
          <a:xfrm>
            <a:off x="41400" y="1330200"/>
            <a:ext cx="8994600" cy="4762800"/>
          </a:xfrm>
          <a:prstGeom prst="rect">
            <a:avLst/>
          </a:prstGeom>
          <a:ln w="0">
            <a:noFill/>
          </a:ln>
        </p:spPr>
      </p:pic>
      <p:pic>
        <p:nvPicPr>
          <p:cNvPr id="772" name="Picture 3" descr=""/>
          <p:cNvPicPr/>
          <p:nvPr/>
        </p:nvPicPr>
        <p:blipFill>
          <a:blip r:embed="rId3"/>
          <a:stretch/>
        </p:blipFill>
        <p:spPr>
          <a:xfrm>
            <a:off x="2157480" y="836640"/>
            <a:ext cx="4829040" cy="371520"/>
          </a:xfrm>
          <a:prstGeom prst="rect">
            <a:avLst/>
          </a:prstGeom>
          <a:ln w="0">
            <a:noFill/>
          </a:ln>
        </p:spPr>
      </p:pic>
      <p:sp>
        <p:nvSpPr>
          <p:cNvPr id="773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2325FCA-4219-4206-9EDB-8841AB7E69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5" name="Picture 3" descr=""/>
          <p:cNvPicPr/>
          <p:nvPr/>
        </p:nvPicPr>
        <p:blipFill>
          <a:blip r:embed="rId1"/>
          <a:stretch/>
        </p:blipFill>
        <p:spPr>
          <a:xfrm>
            <a:off x="274680" y="1052640"/>
            <a:ext cx="8594640" cy="4752720"/>
          </a:xfrm>
          <a:prstGeom prst="rect">
            <a:avLst/>
          </a:prstGeom>
          <a:ln w="0">
            <a:noFill/>
          </a:ln>
        </p:spPr>
      </p:pic>
      <p:sp>
        <p:nvSpPr>
          <p:cNvPr id="866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9084A7B-561A-4D98-A0BB-E52FF244975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7" name="Picture 2" descr=""/>
          <p:cNvPicPr/>
          <p:nvPr/>
        </p:nvPicPr>
        <p:blipFill>
          <a:blip r:embed="rId1"/>
          <a:stretch/>
        </p:blipFill>
        <p:spPr>
          <a:xfrm>
            <a:off x="1635120" y="1317600"/>
            <a:ext cx="6249960" cy="3983040"/>
          </a:xfrm>
          <a:prstGeom prst="rect">
            <a:avLst/>
          </a:prstGeom>
          <a:ln w="0">
            <a:noFill/>
          </a:ln>
        </p:spPr>
      </p:pic>
      <p:sp>
        <p:nvSpPr>
          <p:cNvPr id="868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0E7C6D3-D4DF-4F54-8584-63BF36BD99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" descr=""/>
          <p:cNvPicPr/>
          <p:nvPr/>
        </p:nvPicPr>
        <p:blipFill>
          <a:blip r:embed="rId1"/>
          <a:stretch/>
        </p:blipFill>
        <p:spPr>
          <a:xfrm>
            <a:off x="1058760" y="1397160"/>
            <a:ext cx="7185240" cy="3976560"/>
          </a:xfrm>
          <a:prstGeom prst="rect">
            <a:avLst/>
          </a:prstGeom>
          <a:ln w="0">
            <a:noFill/>
          </a:ln>
        </p:spPr>
      </p:pic>
      <p:sp>
        <p:nvSpPr>
          <p:cNvPr id="870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D7EDCB7-ED1B-435C-AFC2-C5814CF4FD9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1" name="Picture 2" descr=""/>
          <p:cNvPicPr/>
          <p:nvPr/>
        </p:nvPicPr>
        <p:blipFill>
          <a:blip r:embed="rId1"/>
          <a:stretch/>
        </p:blipFill>
        <p:spPr>
          <a:xfrm>
            <a:off x="174600" y="1052640"/>
            <a:ext cx="8794800" cy="4752720"/>
          </a:xfrm>
          <a:prstGeom prst="rect">
            <a:avLst/>
          </a:prstGeom>
          <a:ln w="0">
            <a:noFill/>
          </a:ln>
        </p:spPr>
      </p:pic>
      <p:sp>
        <p:nvSpPr>
          <p:cNvPr id="872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ACECF17-33ED-41FD-9EE8-68DF6F26185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3" name="Picture 2" descr=""/>
          <p:cNvPicPr/>
          <p:nvPr/>
        </p:nvPicPr>
        <p:blipFill>
          <a:blip r:embed="rId1"/>
          <a:stretch/>
        </p:blipFill>
        <p:spPr>
          <a:xfrm>
            <a:off x="324000" y="1328760"/>
            <a:ext cx="8496000" cy="4200480"/>
          </a:xfrm>
          <a:prstGeom prst="rect">
            <a:avLst/>
          </a:prstGeom>
          <a:ln w="0">
            <a:noFill/>
          </a:ln>
        </p:spPr>
      </p:pic>
      <p:sp>
        <p:nvSpPr>
          <p:cNvPr id="874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8932EE4-6D21-42A0-AB12-03B57BFA4FB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5" name="Picture 2" descr=""/>
          <p:cNvPicPr/>
          <p:nvPr/>
        </p:nvPicPr>
        <p:blipFill>
          <a:blip r:embed="rId1"/>
          <a:stretch/>
        </p:blipFill>
        <p:spPr>
          <a:xfrm>
            <a:off x="531720" y="1119240"/>
            <a:ext cx="8361360" cy="4470480"/>
          </a:xfrm>
          <a:prstGeom prst="rect">
            <a:avLst/>
          </a:prstGeom>
          <a:ln w="0">
            <a:noFill/>
          </a:ln>
        </p:spPr>
      </p:pic>
      <p:sp>
        <p:nvSpPr>
          <p:cNvPr id="876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01DC6E1-DA2E-4BB8-AE9F-EFAC88463F6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7" name="Picture 2" descr=""/>
          <p:cNvPicPr/>
          <p:nvPr/>
        </p:nvPicPr>
        <p:blipFill>
          <a:blip r:embed="rId1"/>
          <a:stretch/>
        </p:blipFill>
        <p:spPr>
          <a:xfrm>
            <a:off x="684360" y="952560"/>
            <a:ext cx="8064360" cy="5043600"/>
          </a:xfrm>
          <a:prstGeom prst="rect">
            <a:avLst/>
          </a:prstGeom>
          <a:ln w="0">
            <a:noFill/>
          </a:ln>
        </p:spPr>
      </p:pic>
      <p:sp>
        <p:nvSpPr>
          <p:cNvPr id="878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0149EB04-8AE1-48D2-B0B0-44B85C57FF2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9" name="Picture 2" descr=""/>
          <p:cNvPicPr/>
          <p:nvPr/>
        </p:nvPicPr>
        <p:blipFill>
          <a:blip r:embed="rId1"/>
          <a:stretch/>
        </p:blipFill>
        <p:spPr>
          <a:xfrm>
            <a:off x="639720" y="1036800"/>
            <a:ext cx="8035920" cy="4768560"/>
          </a:xfrm>
          <a:prstGeom prst="rect">
            <a:avLst/>
          </a:prstGeom>
          <a:ln w="0">
            <a:noFill/>
          </a:ln>
        </p:spPr>
      </p:pic>
      <p:sp>
        <p:nvSpPr>
          <p:cNvPr id="880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C7AC75E-FF7A-40D0-97C7-F2FE32DE41D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1" name="Picture 2" descr=""/>
          <p:cNvPicPr/>
          <p:nvPr/>
        </p:nvPicPr>
        <p:blipFill>
          <a:blip r:embed="rId1"/>
          <a:stretch/>
        </p:blipFill>
        <p:spPr>
          <a:xfrm>
            <a:off x="896760" y="1052640"/>
            <a:ext cx="7718760" cy="4537080"/>
          </a:xfrm>
          <a:prstGeom prst="rect">
            <a:avLst/>
          </a:prstGeom>
          <a:ln w="0">
            <a:noFill/>
          </a:ln>
        </p:spPr>
      </p:pic>
      <p:sp>
        <p:nvSpPr>
          <p:cNvPr id="882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7CF4DA5-A9AE-4766-8C4E-B1EFC2E618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3" name="Picture 2" descr=""/>
          <p:cNvPicPr/>
          <p:nvPr/>
        </p:nvPicPr>
        <p:blipFill>
          <a:blip r:embed="rId1"/>
          <a:stretch/>
        </p:blipFill>
        <p:spPr>
          <a:xfrm>
            <a:off x="825480" y="949320"/>
            <a:ext cx="7778880" cy="4783320"/>
          </a:xfrm>
          <a:prstGeom prst="rect">
            <a:avLst/>
          </a:prstGeom>
          <a:ln w="0">
            <a:noFill/>
          </a:ln>
        </p:spPr>
      </p:pic>
      <p:sp>
        <p:nvSpPr>
          <p:cNvPr id="884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C53C21-3CF3-416B-B1EF-DC2A87C9556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5" name="Picture 2" descr=""/>
          <p:cNvPicPr/>
          <p:nvPr/>
        </p:nvPicPr>
        <p:blipFill>
          <a:blip r:embed="rId2"/>
          <a:stretch/>
        </p:blipFill>
        <p:spPr>
          <a:xfrm>
            <a:off x="0" y="1444680"/>
            <a:ext cx="9144000" cy="450540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3" descr=""/>
          <p:cNvPicPr/>
          <p:nvPr/>
        </p:nvPicPr>
        <p:blipFill>
          <a:blip r:embed="rId3"/>
          <a:stretch/>
        </p:blipFill>
        <p:spPr>
          <a:xfrm>
            <a:off x="2076480" y="836640"/>
            <a:ext cx="4991040" cy="324000"/>
          </a:xfrm>
          <a:prstGeom prst="rect">
            <a:avLst/>
          </a:prstGeom>
          <a:ln w="0">
            <a:noFill/>
          </a:ln>
        </p:spPr>
      </p:pic>
      <p:sp>
        <p:nvSpPr>
          <p:cNvPr id="777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069E02C-FD8F-45CF-A4DA-9D828EE5C64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5" name="Picture 2" descr=""/>
          <p:cNvPicPr/>
          <p:nvPr/>
        </p:nvPicPr>
        <p:blipFill>
          <a:blip r:embed="rId1"/>
          <a:stretch/>
        </p:blipFill>
        <p:spPr>
          <a:xfrm>
            <a:off x="649440" y="985680"/>
            <a:ext cx="7954920" cy="4819680"/>
          </a:xfrm>
          <a:prstGeom prst="rect">
            <a:avLst/>
          </a:prstGeom>
          <a:ln w="0">
            <a:noFill/>
          </a:ln>
        </p:spPr>
      </p:pic>
      <p:sp>
        <p:nvSpPr>
          <p:cNvPr id="886" name="Segnaposto numero diapositiva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C4470E3-E2B5-4650-9950-1A188793FF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l MATM - NCP Punto di contatto na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Picture 2" descr=""/>
          <p:cNvPicPr/>
          <p:nvPr/>
        </p:nvPicPr>
        <p:blipFill>
          <a:blip r:embed="rId1"/>
          <a:stretch/>
        </p:blipFill>
        <p:spPr>
          <a:xfrm>
            <a:off x="324000" y="1109520"/>
            <a:ext cx="8496000" cy="4638960"/>
          </a:xfrm>
          <a:prstGeom prst="rect">
            <a:avLst/>
          </a:prstGeom>
          <a:ln w="0">
            <a:noFill/>
          </a:ln>
        </p:spPr>
      </p:pic>
      <p:sp>
        <p:nvSpPr>
          <p:cNvPr id="889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89CFEFB-AC54-4B97-9CB5-A476F74F4E2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Text Box 4"/>
          <p:cNvSpPr/>
          <p:nvPr/>
        </p:nvSpPr>
        <p:spPr>
          <a:xfrm>
            <a:off x="1835280" y="476280"/>
            <a:ext cx="547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66"/>
                </a:solidFill>
                <a:latin typeface="Arial"/>
              </a:rPr>
              <a:t>Il MATM - NCP Punto di contatto na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1" name="Picture 2" descr=""/>
          <p:cNvPicPr/>
          <p:nvPr/>
        </p:nvPicPr>
        <p:blipFill>
          <a:blip r:embed="rId1"/>
          <a:stretch/>
        </p:blipFill>
        <p:spPr>
          <a:xfrm>
            <a:off x="103320" y="1306440"/>
            <a:ext cx="8861400" cy="4283280"/>
          </a:xfrm>
          <a:prstGeom prst="rect">
            <a:avLst/>
          </a:prstGeom>
          <a:ln w="0">
            <a:noFill/>
          </a:ln>
        </p:spPr>
      </p:pic>
      <p:sp>
        <p:nvSpPr>
          <p:cNvPr id="892" name="Segnaposto numero diapositiva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9493BCE-22C9-417D-A83D-3D07F1502A0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9" name="Picture 4" descr=""/>
          <p:cNvPicPr/>
          <p:nvPr/>
        </p:nvPicPr>
        <p:blipFill>
          <a:blip r:embed="rId2"/>
          <a:stretch/>
        </p:blipFill>
        <p:spPr>
          <a:xfrm>
            <a:off x="3005280" y="836640"/>
            <a:ext cx="3133440" cy="371520"/>
          </a:xfrm>
          <a:prstGeom prst="rect">
            <a:avLst/>
          </a:prstGeom>
          <a:ln w="0">
            <a:noFill/>
          </a:ln>
        </p:spPr>
      </p:pic>
      <p:pic>
        <p:nvPicPr>
          <p:cNvPr id="780" name="Picture 5" descr=""/>
          <p:cNvPicPr/>
          <p:nvPr/>
        </p:nvPicPr>
        <p:blipFill>
          <a:blip r:embed="rId3"/>
          <a:stretch/>
        </p:blipFill>
        <p:spPr>
          <a:xfrm>
            <a:off x="179280" y="1265400"/>
            <a:ext cx="8820360" cy="4755960"/>
          </a:xfrm>
          <a:prstGeom prst="rect">
            <a:avLst/>
          </a:prstGeom>
          <a:ln w="0">
            <a:noFill/>
          </a:ln>
        </p:spPr>
      </p:pic>
      <p:sp>
        <p:nvSpPr>
          <p:cNvPr id="781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A3E17D2-94CD-41F6-8A22-741C82B5FEC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2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83" name="Picture 2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8748720" cy="500076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"/>
          <p:cNvPicPr/>
          <p:nvPr/>
        </p:nvPicPr>
        <p:blipFill>
          <a:blip r:embed="rId3"/>
          <a:stretch/>
        </p:blipFill>
        <p:spPr>
          <a:xfrm>
            <a:off x="3652920" y="765000"/>
            <a:ext cx="1838160" cy="343080"/>
          </a:xfrm>
          <a:prstGeom prst="rect">
            <a:avLst/>
          </a:prstGeom>
          <a:ln w="0">
            <a:noFill/>
          </a:ln>
        </p:spPr>
      </p:pic>
      <p:sp>
        <p:nvSpPr>
          <p:cNvPr id="785" name="Segnaposto numero diapositiva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6FA914F-1CE6-4F32-A9FF-003F06F874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88" name="Picture 5" descr=""/>
          <p:cNvPicPr/>
          <p:nvPr/>
        </p:nvPicPr>
        <p:blipFill>
          <a:blip r:embed="rId1"/>
          <a:stretch/>
        </p:blipFill>
        <p:spPr>
          <a:xfrm>
            <a:off x="108000" y="1125360"/>
            <a:ext cx="8991720" cy="4472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91" name="Picture 2" descr=""/>
          <p:cNvPicPr/>
          <p:nvPr/>
        </p:nvPicPr>
        <p:blipFill>
          <a:blip r:embed="rId1"/>
          <a:stretch/>
        </p:blipFill>
        <p:spPr>
          <a:xfrm>
            <a:off x="179280" y="836640"/>
            <a:ext cx="8820360" cy="4908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9-11-11T15:59:31Z</dcterms:modified>
  <cp:revision>44</cp:revision>
  <dc:subject/>
  <dc:title>CORSO DI FORMAZIONE INTERNO ASSOLOMBARDA E CONFINDUSTRIA MILANO, MONZA E BRIANZA SUI PROGRAMMI DI FINANZIAMENTO EUROPEI E LOBBYING.</dc:title>
</cp:coreProperties>
</file>