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5.jpeg" ContentType="image/jpeg"/>
  <Override PartName="/ppt/media/image2.png" ContentType="image/png"/>
  <Override PartName="/ppt/media/image25.png" ContentType="image/png"/>
  <Override PartName="/ppt/charts/chart12.xml" ContentType="application/vnd.openxmlformats-officedocument.drawingml.chart+xml"/>
  <Override PartName="/ppt/charts/chart11.xml" ContentType="application/vnd.openxmlformats-officedocument.drawingml.chart+xml"/>
  <Override PartName="/ppt/charts/chart10.xml" ContentType="application/vnd.openxmlformats-officedocument.drawingml.chart+xml"/>
  <Override PartName="/ppt/charts/chart9.xml" ContentType="application/vnd.openxmlformats-officedocument.drawingml.chart+xml"/>
  <Override PartName="/ppt/charts/chart8.xml" ContentType="application/vnd.openxmlformats-officedocument.drawingml.chart+xml"/>
  <Override PartName="/ppt/charts/chart7.xml" ContentType="application/vnd.openxmlformats-officedocument.drawingml.chart+xml"/>
  <Override PartName="/ppt/charts/chart29.xml" ContentType="application/vnd.openxmlformats-officedocument.drawingml.chart+xml"/>
  <Override PartName="/ppt/charts/chart6.xml" ContentType="application/vnd.openxmlformats-officedocument.drawingml.chart+xml"/>
  <Override PartName="/ppt/charts/chart28.xml" ContentType="application/vnd.openxmlformats-officedocument.drawingml.chart+xml"/>
  <Override PartName="/ppt/charts/chart5.xml" ContentType="application/vnd.openxmlformats-officedocument.drawingml.chart+xml"/>
  <Override PartName="/ppt/charts/chart27.xml" ContentType="application/vnd.openxmlformats-officedocument.drawingml.chart+xml"/>
  <Override PartName="/ppt/charts/chart4.xml" ContentType="application/vnd.openxmlformats-officedocument.drawingml.chart+xml"/>
  <Override PartName="/ppt/charts/chart26.xml" ContentType="application/vnd.openxmlformats-officedocument.drawingml.chart+xml"/>
  <Override PartName="/ppt/charts/chart3.xml" ContentType="application/vnd.openxmlformats-officedocument.drawingml.chart+xml"/>
  <Override PartName="/ppt/charts/chart25.xml" ContentType="application/vnd.openxmlformats-officedocument.drawingml.chart+xml"/>
  <Override PartName="/ppt/charts/chart22.xml" ContentType="application/vnd.openxmlformats-officedocument.drawingml.chart+xml"/>
  <Override PartName="/ppt/charts/chart21.xml" ContentType="application/vnd.openxmlformats-officedocument.drawingml.chart+xml"/>
  <Override PartName="/ppt/charts/chart19.xml" ContentType="application/vnd.openxmlformats-officedocument.drawingml.chart+xml"/>
  <Override PartName="/ppt/charts/chart20.xml" ContentType="application/vnd.openxmlformats-officedocument.drawingml.chart+xml"/>
  <Override PartName="/ppt/charts/chart18.xml" ContentType="application/vnd.openxmlformats-officedocument.drawingml.chart+xml"/>
  <Override PartName="/ppt/charts/chart17.xml" ContentType="application/vnd.openxmlformats-officedocument.drawingml.chart+xml"/>
  <Override PartName="/ppt/charts/chart16.xml" ContentType="application/vnd.openxmlformats-officedocument.drawingml.chart+xml"/>
  <Override PartName="/ppt/charts/chart15.xml" ContentType="application/vnd.openxmlformats-officedocument.drawingml.chart+xml"/>
  <Override PartName="/ppt/charts/chart14.xml" ContentType="application/vnd.openxmlformats-officedocument.drawingml.chart+xml"/>
  <Override PartName="/ppt/charts/chart23.xml" ContentType="application/vnd.openxmlformats-officedocument.drawingml.chart+xml"/>
  <Override PartName="/ppt/charts/chart1.xml" ContentType="application/vnd.openxmlformats-officedocument.drawingml.chart+xml"/>
  <Override PartName="/ppt/charts/chart13.xml" ContentType="application/vnd.openxmlformats-officedocument.drawingml.chart+xml"/>
  <Override PartName="/ppt/charts/chart2.xml" ContentType="application/vnd.openxmlformats-officedocument.drawingml.chart+xml"/>
  <Override PartName="/ppt/charts/chart24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7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141272138377782"/>
          <c:w val="0.973608720596672"/>
          <c:h val="0.977534284336021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mezzi pubblici (bus,tram,metro)</c:v>
                </c:pt>
                <c:pt idx="1">
                  <c:v>auto privata</c:v>
                </c:pt>
                <c:pt idx="2">
                  <c:v>motocicletta/scooter</c:v>
                </c:pt>
                <c:pt idx="3">
                  <c:v>bicicletta</c:v>
                </c:pt>
                <c:pt idx="4">
                  <c:v>nessuno-vado a piedi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41</c:v>
                </c:pt>
                <c:pt idx="1">
                  <c:v>0.4</c:v>
                </c:pt>
                <c:pt idx="2">
                  <c:v>0.08</c:v>
                </c:pt>
                <c:pt idx="3">
                  <c:v>0.04</c:v>
                </c:pt>
                <c:pt idx="4">
                  <c:v>0.07</c:v>
                </c:pt>
              </c:numCache>
            </c:numRef>
          </c:val>
        </c:ser>
        <c:gapWidth val="75"/>
        <c:overlap val="0"/>
        <c:axId val="75533685"/>
        <c:axId val="35210879"/>
      </c:barChart>
      <c:catAx>
        <c:axId val="75533685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10879"/>
        <c:crosses val="autoZero"/>
        <c:auto val="1"/>
        <c:lblAlgn val="ctr"/>
        <c:lblOffset val="100"/>
        <c:noMultiLvlLbl val="0"/>
      </c:catAx>
      <c:valAx>
        <c:axId val="35210879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533685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47</c:v>
                </c:pt>
                <c:pt idx="1">
                  <c:v>0.36</c:v>
                </c:pt>
                <c:pt idx="2">
                  <c:v>0.11</c:v>
                </c:pt>
                <c:pt idx="3">
                  <c:v>0.06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9</c:v>
                </c:pt>
                <c:pt idx="1">
                  <c:v>0.36</c:v>
                </c:pt>
                <c:pt idx="2">
                  <c:v>0.22</c:v>
                </c:pt>
                <c:pt idx="3">
                  <c:v>0.13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279577855952601"/>
          <c:w val="0.973658626915421"/>
          <c:h val="0.547120903536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tutti i giorni (6-7 giorni a settimana)</c:v>
                </c:pt>
                <c:pt idx="1">
                  <c:v>tutti i giorni lavorativi (5 gg a settimana)</c:v>
                </c:pt>
                <c:pt idx="2">
                  <c:v>2-3 volte la settimana</c:v>
                </c:pt>
                <c:pt idx="3">
                  <c:v>1 volta la settimana</c:v>
                </c:pt>
                <c:pt idx="4">
                  <c:v>1 volta al mese</c:v>
                </c:pt>
                <c:pt idx="5">
                  <c:v>mai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15</c:v>
                </c:pt>
                <c:pt idx="1">
                  <c:v>0.1</c:v>
                </c:pt>
                <c:pt idx="2">
                  <c:v>0.21</c:v>
                </c:pt>
                <c:pt idx="3">
                  <c:v>0.13</c:v>
                </c:pt>
                <c:pt idx="4">
                  <c:v>0.19</c:v>
                </c:pt>
                <c:pt idx="5">
                  <c:v>0.23</c:v>
                </c:pt>
              </c:numCache>
            </c:numRef>
          </c:val>
        </c:ser>
        <c:gapWidth val="75"/>
        <c:overlap val="0"/>
        <c:axId val="76783768"/>
        <c:axId val="54189665"/>
      </c:barChart>
      <c:catAx>
        <c:axId val="7678376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89665"/>
        <c:crosses val="autoZero"/>
        <c:auto val="1"/>
        <c:lblAlgn val="ctr"/>
        <c:lblOffset val="100"/>
        <c:noMultiLvlLbl val="0"/>
      </c:catAx>
      <c:valAx>
        <c:axId val="54189665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783768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141272138377782"/>
          <c:w val="0.973608720596672"/>
          <c:h val="0.977534284336021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attese troppo lunghe</c:v>
                </c:pt>
                <c:pt idx="1">
                  <c:v>mezzi troppo affollati</c:v>
                </c:pt>
                <c:pt idx="2">
                  <c:v>la mia destinazione non e' servita da mezzo pubblico</c:v>
                </c:pt>
                <c:pt idx="3">
                  <c:v>tempo di percorrenza troppo lungo</c:v>
                </c:pt>
                <c:pt idx="4">
                  <c:v>costo elevato</c:v>
                </c:pt>
                <c:pt idx="5">
                  <c:v>eccessiva lontananza o difficolta' di accesso alle fermate e/o stazioni</c:v>
                </c:pt>
                <c:pt idx="6">
                  <c:v>altr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0.34</c:v>
                </c:pt>
                <c:pt idx="1">
                  <c:v>0.28</c:v>
                </c:pt>
                <c:pt idx="2">
                  <c:v>0.23</c:v>
                </c:pt>
                <c:pt idx="3">
                  <c:v>0.2</c:v>
                </c:pt>
                <c:pt idx="4">
                  <c:v>0.12</c:v>
                </c:pt>
                <c:pt idx="5">
                  <c:v>0.1</c:v>
                </c:pt>
                <c:pt idx="6">
                  <c:v>0.16</c:v>
                </c:pt>
              </c:numCache>
            </c:numRef>
          </c:val>
        </c:ser>
        <c:gapWidth val="75"/>
        <c:overlap val="0"/>
        <c:axId val="39485460"/>
        <c:axId val="85562013"/>
      </c:barChart>
      <c:catAx>
        <c:axId val="39485460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62013"/>
        <c:crosses val="autoZero"/>
        <c:auto val="1"/>
        <c:lblAlgn val="ctr"/>
        <c:lblOffset val="100"/>
        <c:noMultiLvlLbl val="0"/>
      </c:catAx>
      <c:valAx>
        <c:axId val="85562013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485460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457583901867549"/>
          <c:w val="0.973608720596672"/>
          <c:h val="0.945972021225277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Pt>
            <c:idx val="6"/>
            <c:invertIfNegative val="0"/>
            <c:spPr>
              <a:solidFill>
                <a:srgbClr val="ffc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6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mezzi piu' frequenti</c:v>
                </c:pt>
                <c:pt idx="1">
                  <c:v>mezzi piu' puntuali</c:v>
                </c:pt>
                <c:pt idx="2">
                  <c:v>miglioramento del sistema di scambio tra mezzi diversi</c:v>
                </c:pt>
                <c:pt idx="3">
                  <c:v>diminuzione nei tempi di percorrenza</c:v>
                </c:pt>
                <c:pt idx="4">
                  <c:v>presenza in fermate vicine a dove abito/dove lavoro</c:v>
                </c:pt>
                <c:pt idx="5">
                  <c:v>altro</c:v>
                </c:pt>
                <c:pt idx="6">
                  <c:v>non lo userei in nessun cas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0.44</c:v>
                </c:pt>
                <c:pt idx="1">
                  <c:v>0.34</c:v>
                </c:pt>
                <c:pt idx="2">
                  <c:v>0.2</c:v>
                </c:pt>
                <c:pt idx="3">
                  <c:v>0.17</c:v>
                </c:pt>
                <c:pt idx="4">
                  <c:v>0.16</c:v>
                </c:pt>
                <c:pt idx="5">
                  <c:v>0.02</c:v>
                </c:pt>
                <c:pt idx="6">
                  <c:v>0.22</c:v>
                </c:pt>
              </c:numCache>
            </c:numRef>
          </c:val>
        </c:ser>
        <c:gapWidth val="75"/>
        <c:overlap val="0"/>
        <c:axId val="87673948"/>
        <c:axId val="85840203"/>
      </c:barChart>
      <c:catAx>
        <c:axId val="87673948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40203"/>
        <c:crosses val="autoZero"/>
        <c:auto val="1"/>
        <c:lblAlgn val="ctr"/>
        <c:lblOffset val="100"/>
        <c:noMultiLvlLbl val="0"/>
      </c:catAx>
      <c:valAx>
        <c:axId val="85840203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673948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0778771271993078"/>
          <c:y val="0.17163488242918"/>
          <c:w val="0.932987212768003"/>
          <c:h val="0.55360118496574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tutti i giorni (6-7 giorni a settimana)</c:v>
                </c:pt>
                <c:pt idx="1">
                  <c:v>tutti i giorni lavorativi (5 gg a settimana)</c:v>
                </c:pt>
                <c:pt idx="2">
                  <c:v>2-3 volte la settimana</c:v>
                </c:pt>
                <c:pt idx="3">
                  <c:v>1 volta la settimana</c:v>
                </c:pt>
                <c:pt idx="4">
                  <c:v>1 volta al mese</c:v>
                </c:pt>
                <c:pt idx="5">
                  <c:v>mai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05</c:v>
                </c:pt>
                <c:pt idx="1">
                  <c:v>0.02</c:v>
                </c:pt>
                <c:pt idx="2">
                  <c:v>0.05</c:v>
                </c:pt>
                <c:pt idx="3">
                  <c:v>0.06</c:v>
                </c:pt>
                <c:pt idx="4">
                  <c:v>0.06</c:v>
                </c:pt>
                <c:pt idx="5">
                  <c:v>0.76</c:v>
                </c:pt>
              </c:numCache>
            </c:numRef>
          </c:val>
        </c:ser>
        <c:gapWidth val="75"/>
        <c:overlap val="0"/>
        <c:axId val="62434516"/>
        <c:axId val="56404491"/>
      </c:barChart>
      <c:catAx>
        <c:axId val="6243451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04491"/>
        <c:crosses val="autoZero"/>
        <c:auto val="1"/>
        <c:lblAlgn val="ctr"/>
        <c:lblOffset val="100"/>
        <c:noMultiLvlLbl val="0"/>
      </c:catAx>
      <c:valAx>
        <c:axId val="56404491"/>
        <c:scaling>
          <c:orientation val="minMax"/>
          <c:max val="0.8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434516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99235063055613"/>
          <c:w val="0.973653989056272"/>
          <c:h val="0.856040245331128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Pt>
            <c:idx val="8"/>
            <c:invertIfNegative val="0"/>
            <c:spPr>
              <a:solidFill>
                <a:srgbClr val="ffc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8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realizzazione di piste ciclabili o percorsi protetti per le biciclette</c:v>
                </c:pt>
                <c:pt idx="1">
                  <c:v>miglioramento della sicurezza e della segnaletica sui percorsi ciclabili esistenti</c:v>
                </c:pt>
                <c:pt idx="2">
                  <c:v>realizzazione di parcheggi coperti e protetti presso stazioni ferroviarie e fermate bus/tram</c:v>
                </c:pt>
                <c:pt idx="3">
                  <c:v>realizzazione di parcheggi coperti e protetti presso luogo di lavoro/studio</c:v>
                </c:pt>
                <c:pt idx="4">
                  <c:v>installazione di piu' rastrelliere per il parcheggio delle bici</c:v>
                </c:pt>
                <c:pt idx="5">
                  <c:v>messa a disposizione della bicicletta da parte dell'azienda in cui lavori</c:v>
                </c:pt>
                <c:pt idx="6">
                  <c:v>diffusione capillare di un servizio di Bike-sharing (servizio di noleggio biciclette)</c:v>
                </c:pt>
                <c:pt idx="7">
                  <c:v>altro</c:v>
                </c:pt>
                <c:pt idx="8">
                  <c:v>non lo userei in nessun cas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.3</c:v>
                </c:pt>
                <c:pt idx="1">
                  <c:v>0.16</c:v>
                </c:pt>
                <c:pt idx="2">
                  <c:v>0.06</c:v>
                </c:pt>
                <c:pt idx="3">
                  <c:v>0.06</c:v>
                </c:pt>
                <c:pt idx="4">
                  <c:v>0.05</c:v>
                </c:pt>
                <c:pt idx="5">
                  <c:v>0.04</c:v>
                </c:pt>
                <c:pt idx="6">
                  <c:v>0.04</c:v>
                </c:pt>
                <c:pt idx="7">
                  <c:v>0.01</c:v>
                </c:pt>
                <c:pt idx="8">
                  <c:v>0.51</c:v>
                </c:pt>
              </c:numCache>
            </c:numRef>
          </c:val>
        </c:ser>
        <c:gapWidth val="75"/>
        <c:overlap val="0"/>
        <c:axId val="3460104"/>
        <c:axId val="76926175"/>
      </c:barChart>
      <c:catAx>
        <c:axId val="3460104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26175"/>
        <c:crosses val="autoZero"/>
        <c:auto val="1"/>
        <c:lblAlgn val="ctr"/>
        <c:lblOffset val="100"/>
        <c:noMultiLvlLbl val="0"/>
      </c:catAx>
      <c:valAx>
        <c:axId val="76926175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60104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04</c:v>
                </c:pt>
                <c:pt idx="1">
                  <c:v>0.25</c:v>
                </c:pt>
                <c:pt idx="2">
                  <c:v>0.42</c:v>
                </c:pt>
                <c:pt idx="3">
                  <c:v>0.28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1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141780821917808"/>
          <c:w val="0.973608720596672"/>
          <c:h val="0.94109589041095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Pt>
            <c:idx val="7"/>
            <c:invertIfNegative val="0"/>
            <c:spPr>
              <a:solidFill>
                <a:srgbClr val="ffc000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8"/>
            <c:invertIfNegative val="0"/>
            <c:spPr>
              <a:solidFill>
                <a:srgbClr val="ffc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7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8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si, se conoscessi i compagni di viaggio</c:v>
                </c:pt>
                <c:pt idx="1">
                  <c:v>si',lo faccio gia' adesso</c:v>
                </c:pt>
                <c:pt idx="2">
                  <c:v>si', se viaggiassi come passeggero</c:v>
                </c:pt>
                <c:pt idx="3">
                  <c:v>si, se viaggiassi come conducente</c:v>
                </c:pt>
                <c:pt idx="4">
                  <c:v>si, se non aumentasse il mio attuale tempo di viaggio di piu' di 15 minuti</c:v>
                </c:pt>
                <c:pt idx="5">
                  <c:v>si' se l'azienda mettesse a disposizione un mezzo</c:v>
                </c:pt>
                <c:pt idx="6">
                  <c:v>si, se fosse la consizione per avere un parcheggio riservato</c:v>
                </c:pt>
                <c:pt idx="7">
                  <c:v>no, in nessun caso</c:v>
                </c:pt>
                <c:pt idx="8">
                  <c:v>no, non mi sposto per andare al lavoro/andare a scuo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.24</c:v>
                </c:pt>
                <c:pt idx="1">
                  <c:v>0.08</c:v>
                </c:pt>
                <c:pt idx="2">
                  <c:v>0.07</c:v>
                </c:pt>
                <c:pt idx="3">
                  <c:v>0.05</c:v>
                </c:pt>
                <c:pt idx="4">
                  <c:v>0.05</c:v>
                </c:pt>
                <c:pt idx="5">
                  <c:v>0.05</c:v>
                </c:pt>
                <c:pt idx="6">
                  <c:v>0.03</c:v>
                </c:pt>
                <c:pt idx="7">
                  <c:v>0.32</c:v>
                </c:pt>
                <c:pt idx="8">
                  <c:v>0.23</c:v>
                </c:pt>
              </c:numCache>
            </c:numRef>
          </c:val>
        </c:ser>
        <c:gapWidth val="75"/>
        <c:overlap val="0"/>
        <c:axId val="10130177"/>
        <c:axId val="57957435"/>
      </c:barChart>
      <c:catAx>
        <c:axId val="10130177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57435"/>
        <c:crosses val="autoZero"/>
        <c:auto val="1"/>
        <c:lblAlgn val="ctr"/>
        <c:lblOffset val="100"/>
        <c:noMultiLvlLbl val="0"/>
      </c:catAx>
      <c:valAx>
        <c:axId val="57957435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130177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7</c:v>
                </c:pt>
                <c:pt idx="1">
                  <c:v>0.44</c:v>
                </c:pt>
                <c:pt idx="2">
                  <c:v>0.22</c:v>
                </c:pt>
                <c:pt idx="3">
                  <c:v>0.07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141272138377782"/>
          <c:w val="0.973608720596672"/>
          <c:h val="0.977534284336021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per raggiungere il luogo di lavoro/studio</c:v>
                </c:pt>
                <c:pt idx="1">
                  <c:v>per motivi di lavoro (appuntamenti o visite)</c:v>
                </c:pt>
                <c:pt idx="2">
                  <c:v>per fare acquisti</c:v>
                </c:pt>
                <c:pt idx="3">
                  <c:v>passeggiate/tempo libero</c:v>
                </c:pt>
                <c:pt idx="4">
                  <c:v>altr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38</c:v>
                </c:pt>
                <c:pt idx="1">
                  <c:v>0.21</c:v>
                </c:pt>
                <c:pt idx="2">
                  <c:v>0.21</c:v>
                </c:pt>
                <c:pt idx="3">
                  <c:v>0.19</c:v>
                </c:pt>
                <c:pt idx="4">
                  <c:v>0.02</c:v>
                </c:pt>
              </c:numCache>
            </c:numRef>
          </c:val>
        </c:ser>
        <c:gapWidth val="75"/>
        <c:overlap val="0"/>
        <c:axId val="57476701"/>
        <c:axId val="70197766"/>
      </c:barChart>
      <c:catAx>
        <c:axId val="57476701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97766"/>
        <c:crosses val="autoZero"/>
        <c:auto val="1"/>
        <c:lblAlgn val="ctr"/>
        <c:lblOffset val="100"/>
        <c:noMultiLvlLbl val="0"/>
      </c:catAx>
      <c:valAx>
        <c:axId val="70197766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476701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37627118644068"/>
          <c:y val="0.00233294450924846"/>
          <c:w val="0.545338983050848"/>
          <c:h val="0.987335444092651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2"/>
                <c:pt idx="0">
                  <c:v>SI</c:v>
                </c:pt>
                <c:pt idx="1">
                  <c:v>N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75</c:v>
                </c:pt>
                <c:pt idx="1">
                  <c:v>0.25</c:v>
                </c:pt>
              </c:numCache>
            </c:numRef>
          </c:val>
        </c:ser>
        <c:firstSliceAng val="269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760797342193"/>
          <c:y val="0.0643069440691705"/>
          <c:w val="0.690586932447398"/>
          <c:h val="0.825317481761686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7</c:v>
                </c:pt>
                <c:pt idx="1">
                  <c:v>0.4</c:v>
                </c:pt>
                <c:pt idx="2">
                  <c:v>0.25</c:v>
                </c:pt>
                <c:pt idx="3">
                  <c:v>0.08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37627118644068"/>
          <c:y val="0.00233294450924846"/>
          <c:w val="0.545338983050848"/>
          <c:h val="0.987335444092651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2"/>
                <c:pt idx="0">
                  <c:v>SI</c:v>
                </c:pt>
                <c:pt idx="1">
                  <c:v>N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76</c:v>
                </c:pt>
                <c:pt idx="1">
                  <c:v>0.24</c:v>
                </c:pt>
              </c:numCache>
            </c:numRef>
          </c:val>
        </c:ser>
        <c:firstSliceAng val="269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760797342193"/>
          <c:y val="0.0643069440691705"/>
          <c:w val="0.690586932447398"/>
          <c:h val="0.825317481761686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</c:v>
                </c:pt>
                <c:pt idx="1">
                  <c:v>0.44</c:v>
                </c:pt>
                <c:pt idx="2">
                  <c:v>0.28</c:v>
                </c:pt>
                <c:pt idx="3">
                  <c:v>0.08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37627118644068"/>
          <c:y val="0.00233294450924846"/>
          <c:w val="0.545338983050848"/>
          <c:h val="0.987335444092651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2"/>
                <c:pt idx="0">
                  <c:v>SI</c:v>
                </c:pt>
                <c:pt idx="1">
                  <c:v>N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41</c:v>
                </c:pt>
                <c:pt idx="1">
                  <c:v>0.59</c:v>
                </c:pt>
              </c:numCache>
            </c:numRef>
          </c:val>
        </c:ser>
        <c:firstSliceAng val="359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760797342193"/>
          <c:y val="0.0643069440691705"/>
          <c:w val="0.690586932447398"/>
          <c:h val="0.825317481761686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36</c:v>
                </c:pt>
                <c:pt idx="1">
                  <c:v>0.46</c:v>
                </c:pt>
                <c:pt idx="2">
                  <c:v>0.14</c:v>
                </c:pt>
                <c:pt idx="3">
                  <c:v>0.04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498209822333311"/>
          <c:y val="0.099235063055613"/>
          <c:w val="0.501722623792475"/>
          <c:h val="0.856040245331128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Pt>
            <c:idx val="0"/>
            <c:invertIfNegative val="0"/>
            <c:spPr>
              <a:solidFill>
                <a:srgbClr val="037727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invertIfNegative val="0"/>
            <c:spPr>
              <a:solidFill>
                <a:srgbClr val="037727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invertIfNegative val="0"/>
            <c:spPr>
              <a:solidFill>
                <a:srgbClr val="037727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migliorare il trasporto pubblico urbano</c:v>
                </c:pt>
                <c:pt idx="1">
                  <c:v>realizzare piste ciclabili protette e sicure</c:v>
                </c:pt>
                <c:pt idx="2">
                  <c:v>aumentare i parcheggi di interscambio fra auto e mezzo pubblico</c:v>
                </c:pt>
                <c:pt idx="3">
                  <c:v>creare isole pedonali e/o nuove zone a traffico limitato (ZTL)</c:v>
                </c:pt>
                <c:pt idx="4">
                  <c:v>realizzare rastrelliere e ricoveri dedicati e sicuri per le biciclette</c:v>
                </c:pt>
                <c:pt idx="5">
                  <c:v>creare o rafforzare il sistema di noleggio auto Car Sharing</c:v>
                </c:pt>
                <c:pt idx="6">
                  <c:v>creare o rafforzare il sistema di Bike Sharing (servizio noleggio biciclette)</c:v>
                </c:pt>
                <c:pt idx="7">
                  <c:v>sviluppo tecnologie/app per i servizi di mobilita'</c:v>
                </c:pt>
                <c:pt idx="8">
                  <c:v>creare o rafforzare il sistema di condivisione di auto private Car Pooling</c:v>
                </c:pt>
                <c:pt idx="9">
                  <c:v>altr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.67</c:v>
                </c:pt>
                <c:pt idx="1">
                  <c:v>0.36</c:v>
                </c:pt>
                <c:pt idx="2">
                  <c:v>0.28</c:v>
                </c:pt>
                <c:pt idx="3">
                  <c:v>0.15</c:v>
                </c:pt>
                <c:pt idx="4">
                  <c:v>0.11</c:v>
                </c:pt>
                <c:pt idx="5">
                  <c:v>0.08</c:v>
                </c:pt>
                <c:pt idx="6">
                  <c:v>0.06</c:v>
                </c:pt>
                <c:pt idx="7">
                  <c:v>0.05</c:v>
                </c:pt>
                <c:pt idx="8">
                  <c:v>0.04</c:v>
                </c:pt>
                <c:pt idx="9">
                  <c:v>0.02</c:v>
                </c:pt>
              </c:numCache>
            </c:numRef>
          </c:val>
        </c:ser>
        <c:gapWidth val="75"/>
        <c:overlap val="0"/>
        <c:axId val="64921127"/>
        <c:axId val="68784111"/>
      </c:barChart>
      <c:catAx>
        <c:axId val="64921127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84111"/>
        <c:crosses val="autoZero"/>
        <c:auto val="1"/>
        <c:lblAlgn val="ctr"/>
        <c:lblOffset val="100"/>
        <c:noMultiLvlLbl val="0"/>
      </c:catAx>
      <c:valAx>
        <c:axId val="68784111"/>
        <c:scaling>
          <c:orientation val="minMax"/>
          <c:max val="0.8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921127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72290181895543"/>
          <c:y val="0.0989473684210526"/>
          <c:w val="0.924263376236571"/>
          <c:h val="0.868947368421053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onna2</c:v>
                </c:pt>
              </c:strCache>
            </c:strRef>
          </c:tx>
          <c:spPr>
            <a:gradFill>
              <a:gsLst>
                <a:gs pos="0">
                  <a:srgbClr val="ff9f9f"/>
                </a:gs>
                <a:gs pos="100000">
                  <a:srgbClr val="ffc5c5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ff9f9f"/>
                  </a:gs>
                  <a:gs pos="100000">
                    <a:srgbClr val="ffc5c5"/>
                  </a:gs>
                </a:gsLst>
                <a:lin ang="0"/>
              </a:gradFill>
              <a:ln w="9360">
                <a:solidFill>
                  <a:srgbClr val="ff0000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1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1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FEMMINE</c:v>
                </c:pt>
                <c:pt idx="1">
                  <c:v>MASCHI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53</c:v>
                </c:pt>
                <c:pt idx="1">
                  <c:v>0.47</c:v>
                </c:pt>
              </c:numCache>
            </c:numRef>
          </c:val>
        </c:ser>
        <c:gapWidth val="70"/>
        <c:overlap val="-20"/>
        <c:axId val="77902313"/>
        <c:axId val="17929902"/>
      </c:barChart>
      <c:catAx>
        <c:axId val="77902313"/>
        <c:scaling>
          <c:orientation val="minMax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929902"/>
        <c:crosses val="autoZero"/>
        <c:auto val="1"/>
        <c:lblAlgn val="ctr"/>
        <c:lblOffset val="100"/>
        <c:noMultiLvlLbl val="0"/>
      </c:catAx>
      <c:valAx>
        <c:axId val="17929902"/>
        <c:scaling>
          <c:orientation val="minMax"/>
          <c:max val="1.2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902313"/>
        <c:crossBetween val="between"/>
        <c:majorUnit val="0.2"/>
      </c:valAx>
      <c:spPr>
        <a:noFill/>
        <a:ln w="0">
          <a:noFill/>
        </a:ln>
      </c:spPr>
    </c:plotArea>
    <c:plotVisOnly val="1"/>
    <c:dispBlanksAs val="gap"/>
  </c:chart>
  <c:spPr>
    <a:noFill/>
    <a:ln w="0">
      <a:solidFill>
        <a:srgbClr val="ffffff"/>
      </a:solidFill>
    </a:ln>
  </c:spPr>
</c:chartSpace>
</file>

<file path=ppt/charts/chart2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72306275490067"/>
          <c:y val="0.0287881399758662"/>
          <c:w val="0.924220497302987"/>
          <c:h val="0.938976038614032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onna2</c:v>
                </c:pt>
              </c:strCache>
            </c:strRef>
          </c:tx>
          <c:spPr>
            <a:gradFill>
              <a:gsLst>
                <a:gs pos="0">
                  <a:srgbClr val="ffd89f"/>
                </a:gs>
                <a:gs pos="100000">
                  <a:srgbClr val="ffe5c5"/>
                </a:gs>
              </a:gsLst>
              <a:lin ang="0"/>
            </a:gradFill>
            <a:ln w="9360">
              <a:solidFill>
                <a:srgbClr val="ffc000"/>
              </a:solidFill>
              <a:round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ffd89f"/>
                  </a:gs>
                  <a:gs pos="100000">
                    <a:srgbClr val="ffe5c5"/>
                  </a:gs>
                </a:gsLst>
                <a:lin ang="0"/>
              </a:gradFill>
              <a:ln w="9360">
                <a:solidFill>
                  <a:srgbClr val="ffc000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1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1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18-24</c:v>
                </c:pt>
                <c:pt idx="1">
                  <c:v>25-34</c:v>
                </c:pt>
                <c:pt idx="2">
                  <c:v>35-44</c:v>
                </c:pt>
                <c:pt idx="3">
                  <c:v>45-54</c:v>
                </c:pt>
                <c:pt idx="4">
                  <c:v>55-64</c:v>
                </c:pt>
                <c:pt idx="5">
                  <c:v>65 e piu'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09</c:v>
                </c:pt>
                <c:pt idx="1">
                  <c:v>0.11</c:v>
                </c:pt>
                <c:pt idx="2">
                  <c:v>0.16</c:v>
                </c:pt>
                <c:pt idx="3">
                  <c:v>0.2</c:v>
                </c:pt>
                <c:pt idx="4">
                  <c:v>0.19</c:v>
                </c:pt>
                <c:pt idx="5">
                  <c:v>0.25</c:v>
                </c:pt>
              </c:numCache>
            </c:numRef>
          </c:val>
        </c:ser>
        <c:gapWidth val="70"/>
        <c:overlap val="-20"/>
        <c:axId val="63632772"/>
        <c:axId val="21758116"/>
      </c:barChart>
      <c:catAx>
        <c:axId val="63632772"/>
        <c:scaling>
          <c:orientation val="maxMin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758116"/>
        <c:crosses val="autoZero"/>
        <c:auto val="1"/>
        <c:lblAlgn val="ctr"/>
        <c:lblOffset val="100"/>
        <c:noMultiLvlLbl val="0"/>
      </c:catAx>
      <c:valAx>
        <c:axId val="21758116"/>
        <c:scaling>
          <c:orientation val="minMax"/>
          <c:max val="1.2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632772"/>
        <c:crossBetween val="between"/>
        <c:majorUnit val="0.2"/>
      </c:valAx>
      <c:spPr>
        <a:noFill/>
        <a:ln w="0">
          <a:noFill/>
        </a:ln>
      </c:spPr>
    </c:plotArea>
    <c:plotVisOnly val="1"/>
    <c:dispBlanksAs val="gap"/>
  </c:chart>
  <c:spPr>
    <a:noFill/>
    <a:ln w="0">
      <a:solidFill>
        <a:srgbClr val="ffffff"/>
      </a:solidFill>
    </a:ln>
  </c:spPr>
</c:chartSpace>
</file>

<file path=ppt/charts/chart2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72306275490067"/>
          <c:y val="0.0287835176488411"/>
          <c:w val="0.924220497302987"/>
          <c:h val="0.939100136342978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onna2</c:v>
                </c:pt>
              </c:strCache>
            </c:strRef>
          </c:tx>
          <c:spPr>
            <a:gradFill>
              <a:gsLst>
                <a:gs pos="0">
                  <a:srgbClr val="558ed5"/>
                </a:gs>
                <a:gs pos="100000">
                  <a:srgbClr val="8eb4e3"/>
                </a:gs>
              </a:gsLst>
              <a:lin ang="0"/>
            </a:gradFill>
            <a:ln w="9360">
              <a:solidFill>
                <a:srgbClr val="17375e"/>
              </a:solidFill>
              <a:round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558ed5"/>
                  </a:gs>
                  <a:gs pos="100000">
                    <a:srgbClr val="8eb4e3"/>
                  </a:gs>
                </a:gsLst>
                <a:lin ang="0"/>
              </a:gradFill>
              <a:ln w="9360">
                <a:solidFill>
                  <a:srgbClr val="17375e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1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1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1 persona</c:v>
                </c:pt>
                <c:pt idx="1">
                  <c:v>2 persone</c:v>
                </c:pt>
                <c:pt idx="2">
                  <c:v>3 persone</c:v>
                </c:pt>
                <c:pt idx="3">
                  <c:v>4 persone</c:v>
                </c:pt>
                <c:pt idx="4">
                  <c:v>5 o piu' person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13</c:v>
                </c:pt>
                <c:pt idx="1">
                  <c:v>0.35</c:v>
                </c:pt>
                <c:pt idx="2">
                  <c:v>0.24</c:v>
                </c:pt>
                <c:pt idx="3">
                  <c:v>0.22</c:v>
                </c:pt>
                <c:pt idx="4">
                  <c:v>0.06</c:v>
                </c:pt>
              </c:numCache>
            </c:numRef>
          </c:val>
        </c:ser>
        <c:gapWidth val="70"/>
        <c:overlap val="-20"/>
        <c:axId val="88996370"/>
        <c:axId val="53505008"/>
      </c:barChart>
      <c:catAx>
        <c:axId val="88996370"/>
        <c:scaling>
          <c:orientation val="maxMin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505008"/>
        <c:crosses val="autoZero"/>
        <c:auto val="1"/>
        <c:lblAlgn val="ctr"/>
        <c:lblOffset val="100"/>
        <c:noMultiLvlLbl val="0"/>
      </c:catAx>
      <c:valAx>
        <c:axId val="53505008"/>
        <c:scaling>
          <c:orientation val="minMax"/>
          <c:max val="1.2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996370"/>
        <c:crossBetween val="between"/>
        <c:majorUnit val="0.2"/>
      </c:valAx>
      <c:spPr>
        <a:noFill/>
        <a:ln w="0">
          <a:noFill/>
        </a:ln>
      </c:spPr>
    </c:plotArea>
    <c:plotVisOnly val="1"/>
    <c:dispBlanksAs val="gap"/>
  </c:chart>
  <c:spPr>
    <a:noFill/>
    <a:ln w="0">
      <a:solidFill>
        <a:srgbClr val="ffffff"/>
      </a:solidFill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16445005339287"/>
          <c:y val="0.145528605813738"/>
          <c:w val="0.857198330259198"/>
          <c:h val="0.547120903536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nessuna</c:v>
                </c:pt>
                <c:pt idx="1">
                  <c:v>una</c:v>
                </c:pt>
                <c:pt idx="2">
                  <c:v>due</c:v>
                </c:pt>
                <c:pt idx="3">
                  <c:v>tre</c:v>
                </c:pt>
                <c:pt idx="4">
                  <c:v>piu' di tr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15</c:v>
                </c:pt>
                <c:pt idx="1">
                  <c:v>0.59</c:v>
                </c:pt>
                <c:pt idx="2">
                  <c:v>0.22</c:v>
                </c:pt>
                <c:pt idx="3">
                  <c:v>0.02</c:v>
                </c:pt>
                <c:pt idx="4">
                  <c:v>0.01</c:v>
                </c:pt>
              </c:numCache>
            </c:numRef>
          </c:val>
        </c:ser>
        <c:gapWidth val="75"/>
        <c:overlap val="0"/>
        <c:axId val="91348078"/>
        <c:axId val="31266237"/>
      </c:barChart>
      <c:catAx>
        <c:axId val="913480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66237"/>
        <c:crosses val="autoZero"/>
        <c:auto val="1"/>
        <c:lblAlgn val="ctr"/>
        <c:lblOffset val="100"/>
        <c:noMultiLvlLbl val="0"/>
      </c:catAx>
      <c:valAx>
        <c:axId val="31266237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348078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034008425968225"/>
          <c:y val="0.184780596185892"/>
          <c:w val="0.973656159585808"/>
          <c:h val="0.57970746158118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meno di un'ora</c:v>
                </c:pt>
                <c:pt idx="1">
                  <c:v>tra 1 a 2 ore</c:v>
                </c:pt>
                <c:pt idx="2">
                  <c:v>piu' di 2 or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75</c:v>
                </c:pt>
                <c:pt idx="1">
                  <c:v>0.2</c:v>
                </c:pt>
                <c:pt idx="2">
                  <c:v>0.05</c:v>
                </c:pt>
              </c:numCache>
            </c:numRef>
          </c:val>
        </c:ser>
        <c:gapWidth val="75"/>
        <c:overlap val="0"/>
        <c:axId val="28295928"/>
        <c:axId val="53222529"/>
      </c:barChart>
      <c:catAx>
        <c:axId val="2829592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22529"/>
        <c:crosses val="autoZero"/>
        <c:auto val="1"/>
        <c:lblAlgn val="ctr"/>
        <c:lblOffset val="100"/>
        <c:noMultiLvlLbl val="0"/>
      </c:catAx>
      <c:valAx>
        <c:axId val="53222529"/>
        <c:scaling>
          <c:orientation val="minMax"/>
          <c:max val="0.9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295928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37642125635029"/>
          <c:y val="0.00227238297227693"/>
          <c:w val="0.54535924522216"/>
          <c:h val="0.987426147553401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0"/>
          </c:dLbls>
          <c:cat>
            <c:strRef>
              <c:f>categories</c:f>
              <c:strCache>
                <c:ptCount val="2"/>
                <c:pt idx="0">
                  <c:v>SI</c:v>
                </c:pt>
                <c:pt idx="1">
                  <c:v>N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19</c:v>
                </c:pt>
                <c:pt idx="1">
                  <c:v>0.81</c:v>
                </c:pt>
              </c:numCache>
            </c:numRef>
          </c:val>
        </c:ser>
        <c:firstSliceAng val="269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760797342193"/>
          <c:y val="0.0643069440691705"/>
          <c:w val="0.690586932447398"/>
          <c:h val="0.825317481761686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</c:v>
                </c:pt>
                <c:pt idx="1">
                  <c:v>0.31</c:v>
                </c:pt>
                <c:pt idx="2">
                  <c:v>0.16</c:v>
                </c:pt>
                <c:pt idx="3">
                  <c:v>0.33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689777357822004"/>
          <c:y val="0.1375"/>
          <c:w val="0.839071635268411"/>
          <c:h val="0.855"/>
        </c:manualLayout>
      </c:layout>
      <c:barChart>
        <c:barDir val="bar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MINUITO</c:v>
                </c:pt>
              </c:strCache>
            </c:strRef>
          </c:tx>
          <c:spPr>
            <a:solidFill>
              <a:srgbClr val="037727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ffffff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0.2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RIMASTO UGUALE</c:v>
                </c:pt>
              </c:strCache>
            </c:strRef>
          </c:tx>
          <c:spPr>
            <a:solidFill>
              <a:srgbClr val="a6a6a6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0.6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AUMENTATO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0.1</c:v>
                </c:pt>
              </c:numCache>
            </c:numRef>
          </c:val>
        </c:ser>
        <c:gapWidth val="58"/>
        <c:overlap val="100"/>
        <c:axId val="26134900"/>
        <c:axId val="85709322"/>
      </c:barChart>
      <c:catAx>
        <c:axId val="26134900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709322"/>
        <c:auto val="1"/>
        <c:lblAlgn val="ctr"/>
        <c:lblOffset val="100"/>
        <c:noMultiLvlLbl val="0"/>
      </c:catAx>
      <c:valAx>
        <c:axId val="85709322"/>
        <c:scaling>
          <c:orientation val="minMax"/>
        </c:scaling>
        <c:delete val="1"/>
        <c:axPos val="l"/>
        <c:numFmt formatCode="[$-409]0%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134900"/>
        <c:crossBetween val="between"/>
      </c:valAx>
      <c:spPr>
        <a:noFill/>
        <a:ln w="25560">
          <a:noFill/>
        </a:ln>
      </c:spPr>
    </c:plotArea>
    <c:legend>
      <c:legendPos val="r"/>
      <c:layout>
        <c:manualLayout>
          <c:xMode val="edge"/>
          <c:yMode val="edge"/>
          <c:x val="0.211338582677165"/>
          <c:y val="0.00725197200311077"/>
          <c:w val="0.574078083989502"/>
          <c:h val="0.27199128473854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689777357822004"/>
          <c:y val="0.1375"/>
          <c:w val="0.839071635268411"/>
          <c:h val="0.855"/>
        </c:manualLayout>
      </c:layout>
      <c:barChart>
        <c:barDir val="bar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MINUITO</c:v>
                </c:pt>
              </c:strCache>
            </c:strRef>
          </c:tx>
          <c:spPr>
            <a:solidFill>
              <a:srgbClr val="037727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37727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0.4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RIMASTO UGUALE</c:v>
                </c:pt>
              </c:strCache>
            </c:strRef>
          </c:tx>
          <c:spPr>
            <a:solidFill>
              <a:srgbClr val="a6a6a6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0.3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AUMENTATO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0.17</c:v>
                </c:pt>
              </c:numCache>
            </c:numRef>
          </c:val>
        </c:ser>
        <c:gapWidth val="58"/>
        <c:overlap val="100"/>
        <c:axId val="86661463"/>
        <c:axId val="96450122"/>
      </c:barChart>
      <c:catAx>
        <c:axId val="86661463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450122"/>
        <c:auto val="1"/>
        <c:lblAlgn val="ctr"/>
        <c:lblOffset val="100"/>
        <c:noMultiLvlLbl val="0"/>
      </c:catAx>
      <c:valAx>
        <c:axId val="96450122"/>
        <c:scaling>
          <c:orientation val="minMax"/>
        </c:scaling>
        <c:delete val="1"/>
        <c:axPos val="l"/>
        <c:numFmt formatCode="[$-409]0%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661463"/>
        <c:crossBetween val="between"/>
      </c:valAx>
      <c:spPr>
        <a:noFill/>
        <a:ln w="25560">
          <a:noFill/>
        </a:ln>
      </c:spPr>
    </c:plotArea>
    <c:legend>
      <c:legendPos val="r"/>
      <c:layout>
        <c:manualLayout>
          <c:xMode val="edge"/>
          <c:yMode val="edge"/>
          <c:x val="0.211338582677165"/>
          <c:y val="0.00725197200311077"/>
          <c:w val="0.574078083989502"/>
          <c:h val="0.27199128473854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11"/>
          <c:dPt>
            <c:idx val="0"/>
            <c:explosion val="11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11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11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11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5</c:v>
                </c:pt>
                <c:pt idx="1">
                  <c:v>0.38</c:v>
                </c:pt>
                <c:pt idx="2">
                  <c:v>0.09</c:v>
                </c:pt>
                <c:pt idx="3">
                  <c:v>0.03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F2C-D164-4587-B442-DDBF916A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35C-4CF5-44C4-8008-AA958C47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8FE-160A-4313-B3FE-A4F1A59B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729-ABFB-4F83-8E8E-D0C09B50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1542-358B-46A3-80B7-1B3552FC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3487-0832-4F83-8D67-0CAA4778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A575-4E15-46F2-9040-A4989397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5AE3-3C06-4EC0-8025-68609D4F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19BA-181A-4615-B313-74F4FE75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52FB-0FA3-4C6C-8098-2C048DA8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120F-DCCE-4225-9B21-1411CE96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855-73EC-4FE8-83BE-4BF8ADC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6821-1449-4009-A8CC-DE9880A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48A4-699B-47F6-B09B-929933A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31E4-D241-40AF-B1D3-2289CFEA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897-F98A-4B7D-AD7D-C3603E99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B43A-9B3B-43AA-87EB-34417E67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E66E1-B506-42FE-A50E-056876370B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F6A91-444B-41D7-957E-F0A9708126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D81B5F-BD14-4295-9542-596586C20A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9C644-C496-450C-854D-C20FCBEC37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4EFE3-281C-4AD2-8CED-E7E8375CE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778-94D4-473C-BB1E-3CBA0BFA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A71538-C615-4E2A-AD61-19DF70FDC1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E5B990-A0F1-467A-9889-A1AE0CF716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8DC5AC-232F-46FD-B5D4-12BD539B5B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FA969-A3A7-4827-A8FA-EF5430A639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11048E-ABAB-4A2B-8D21-661EDC86D0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92807-7131-4B99-818C-5931AA87C5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4B3EE-391D-4D59-BF88-D7426A788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F38-EA05-4E56-B7BC-651D5FCD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385-2E74-4586-93E2-847D0DA1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A36-6BFB-4F26-A47A-39BFB940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EDF-386E-4E6E-A1EE-C088E7C2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FC7-8C78-46A4-A7DE-0823A216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F71-2A55-4411-B2A2-A5F7847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5CFAA4-F1F5-45A4-A029-EAA3DDFF1B1E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BA3CC8-61B7-45C2-8613-C5FF29A2C417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2" name="Connettore 1 8"/>
          <p:cNvCxnSpPr/>
          <p:nvPr/>
        </p:nvCxnSpPr>
        <p:spPr>
          <a:xfrm>
            <a:off x="611280" y="548640"/>
            <a:ext cx="846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3" name="Connettore 1 9"/>
          <p:cNvCxnSpPr/>
          <p:nvPr/>
        </p:nvCxnSpPr>
        <p:spPr>
          <a:xfrm>
            <a:off x="611280" y="6309000"/>
            <a:ext cx="846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84" name="Rettangolo 11"/>
          <p:cNvSpPr/>
          <p:nvPr/>
        </p:nvSpPr>
        <p:spPr>
          <a:xfrm>
            <a:off x="0" y="0"/>
            <a:ext cx="611280" cy="6857640"/>
          </a:xfrm>
          <a:prstGeom prst="rect">
            <a:avLst/>
          </a:prstGeom>
          <a:solidFill>
            <a:srgbClr val="0e71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Num" idx="7"/>
          </p:nvPr>
        </p:nvSpPr>
        <p:spPr>
          <a:xfrm>
            <a:off x="3506400" y="6370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2855103-0728-437B-87B1-F6FC74640260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Immagine 10" descr="Marchio ANCI Istituzionale.jpg"/>
          <p:cNvPicPr/>
          <p:nvPr/>
        </p:nvPicPr>
        <p:blipFill>
          <a:blip r:embed="rId2"/>
          <a:stretch/>
        </p:blipFill>
        <p:spPr>
          <a:xfrm>
            <a:off x="103320" y="5697000"/>
            <a:ext cx="398520" cy="589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3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4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6.xml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7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8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9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20.xml"/><Relationship Id="rId3" Type="http://schemas.openxmlformats.org/officeDocument/2006/relationships/chart" Target="../charts/chart2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22.xml"/><Relationship Id="rId3" Type="http://schemas.openxmlformats.org/officeDocument/2006/relationships/chart" Target="../charts/chart23.xm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24.xml"/><Relationship Id="rId3" Type="http://schemas.openxmlformats.org/officeDocument/2006/relationships/chart" Target="../charts/chart25.xm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chart" Target="../charts/chart26.xml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chart" Target="../charts/chart27.xml"/><Relationship Id="rId3" Type="http://schemas.openxmlformats.org/officeDocument/2006/relationships/chart" Target="../charts/chart28.xml"/><Relationship Id="rId4" Type="http://schemas.openxmlformats.org/officeDocument/2006/relationships/chart" Target="../charts/chart29.xm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.xml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2.xml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3.xml"/><Relationship Id="rId3" Type="http://schemas.openxmlformats.org/officeDocument/2006/relationships/image" Target="../media/image13.png"/><Relationship Id="rId4" Type="http://schemas.openxmlformats.org/officeDocument/2006/relationships/chart" Target="../charts/chart4.xml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5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7.xml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chart" Target="../charts/chart8.xm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tangolo 3"/>
          <p:cNvSpPr/>
          <p:nvPr/>
        </p:nvSpPr>
        <p:spPr>
          <a:xfrm>
            <a:off x="108360" y="2129400"/>
            <a:ext cx="3779640" cy="249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MOBILITA’ SOSTEN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RISULTATI DELLA RIC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7"/>
          <p:cNvSpPr/>
          <p:nvPr/>
        </p:nvSpPr>
        <p:spPr>
          <a:xfrm>
            <a:off x="0" y="6508800"/>
            <a:ext cx="20880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400" spc="-1" strike="noStrike">
                <a:solidFill>
                  <a:srgbClr val="ffffff"/>
                </a:solidFill>
                <a:latin typeface="Calibri"/>
              </a:rPr>
              <a:t>Giugno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magine 12" descr="ConferenzaStampa Mobilità Indag PIEPOLI.png"/>
          <p:cNvPicPr/>
          <p:nvPr/>
        </p:nvPicPr>
        <p:blipFill>
          <a:blip r:embed="rId1"/>
          <a:stretch/>
        </p:blipFill>
        <p:spPr>
          <a:xfrm>
            <a:off x="-84960" y="-265320"/>
            <a:ext cx="9312120" cy="712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Hp\Desktop\NUOVO LOGO IP.png"/>
          <p:cNvPicPr/>
          <p:nvPr/>
        </p:nvPicPr>
        <p:blipFill>
          <a:blip r:embed="rId2"/>
          <a:stretch/>
        </p:blipFill>
        <p:spPr>
          <a:xfrm>
            <a:off x="3810960" y="5410080"/>
            <a:ext cx="439920" cy="65520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13"/>
          <p:cNvSpPr/>
          <p:nvPr/>
        </p:nvSpPr>
        <p:spPr>
          <a:xfrm>
            <a:off x="1371600" y="5819040"/>
            <a:ext cx="2361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A cura dell’Istituto Piep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CasellaDiTesto 8"/>
          <p:cNvSpPr/>
          <p:nvPr/>
        </p:nvSpPr>
        <p:spPr>
          <a:xfrm>
            <a:off x="1951200" y="866160"/>
            <a:ext cx="5904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nto la preoccupa l'inquinamento dell'aria e acustico prodotto dal traffico motorizzato n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Grafico 18"/>
          <p:cNvGraphicFramePr/>
          <p:nvPr/>
        </p:nvGraphicFramePr>
        <p:xfrm>
          <a:off x="2843640" y="213300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18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ttangolo arrotondato 31"/>
          <p:cNvSpPr/>
          <p:nvPr/>
        </p:nvSpPr>
        <p:spPr>
          <a:xfrm>
            <a:off x="971640" y="314100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8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INQUINAMENTO E ZONE Z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ttangolo arrotondato 27"/>
          <p:cNvSpPr/>
          <p:nvPr/>
        </p:nvSpPr>
        <p:spPr>
          <a:xfrm>
            <a:off x="6516360" y="311112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1079640" cy="132156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5F5DAB-3655-4607-AE43-1DB96AB47C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CasellaDiTesto 8"/>
          <p:cNvSpPr/>
          <p:nvPr/>
        </p:nvSpPr>
        <p:spPr>
          <a:xfrm>
            <a:off x="633960" y="936360"/>
            <a:ext cx="5904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nto è favorevole alle zone a traffico limitato (ZTL) nel centro storico d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207 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Grafico 18"/>
          <p:cNvGraphicFramePr/>
          <p:nvPr/>
        </p:nvGraphicFramePr>
        <p:xfrm>
          <a:off x="2794320" y="198900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29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ttangolo arrotondato 31"/>
          <p:cNvSpPr/>
          <p:nvPr/>
        </p:nvSpPr>
        <p:spPr>
          <a:xfrm>
            <a:off x="788400" y="167364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83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INQUINAMENTO E ZONE Z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tangolo arrotondato 27"/>
          <p:cNvSpPr/>
          <p:nvPr/>
        </p:nvSpPr>
        <p:spPr>
          <a:xfrm>
            <a:off x="6516360" y="436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http://www.comune.senigallia.an.it/site/senigallia/gallery/multisite/ufficio-comunicazione/notizie-utili/ztl.gif"/>
          <p:cNvPicPr/>
          <p:nvPr/>
        </p:nvPicPr>
        <p:blipFill>
          <a:blip r:embed="rId3"/>
          <a:stretch/>
        </p:blipFill>
        <p:spPr>
          <a:xfrm>
            <a:off x="7952760" y="665640"/>
            <a:ext cx="1007640" cy="100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94771-BD9B-4C3F-81D7-71C239ACDC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CasellaDiTesto 8"/>
          <p:cNvSpPr/>
          <p:nvPr/>
        </p:nvSpPr>
        <p:spPr>
          <a:xfrm>
            <a:off x="744840" y="798120"/>
            <a:ext cx="5904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E quanto sarebbe favorevole ad allargare le zone a traffico limitato (ZTL) sia nel centro storico che in altre zone d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207 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Grafico 18"/>
          <p:cNvGraphicFramePr/>
          <p:nvPr/>
        </p:nvGraphicFramePr>
        <p:xfrm>
          <a:off x="2771640" y="191700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0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ttangolo arrotondato 31"/>
          <p:cNvSpPr/>
          <p:nvPr/>
        </p:nvSpPr>
        <p:spPr>
          <a:xfrm>
            <a:off x="744840" y="167112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6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INQUINAMENTO E ZONE Z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tangolo arrotondato 27"/>
          <p:cNvSpPr/>
          <p:nvPr/>
        </p:nvSpPr>
        <p:spPr>
          <a:xfrm>
            <a:off x="6588360" y="436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http://www.comune.senigallia.an.it/site/senigallia/gallery/multisite/ufficio-comunicazione/notizie-utili/ztl.gif"/>
          <p:cNvPicPr/>
          <p:nvPr/>
        </p:nvPicPr>
        <p:blipFill>
          <a:blip r:embed="rId3"/>
          <a:stretch/>
        </p:blipFill>
        <p:spPr>
          <a:xfrm>
            <a:off x="7952760" y="665640"/>
            <a:ext cx="1007640" cy="100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3AA17A-630F-4464-BB9E-E2050841B6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CasellaDiTesto 8"/>
          <p:cNvSpPr/>
          <p:nvPr/>
        </p:nvSpPr>
        <p:spPr>
          <a:xfrm>
            <a:off x="1198440" y="2421000"/>
            <a:ext cx="590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Parliamo ora dei mezzi pubblici della sua città. Con che frequenza utilizza i mezzi pubblic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1500 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TRASPORTO PUBBLICO LO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Grafico 21"/>
          <p:cNvGraphicFramePr/>
          <p:nvPr/>
        </p:nvGraphicFramePr>
        <p:xfrm>
          <a:off x="1115640" y="2817360"/>
          <a:ext cx="7776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255" name="Picture 3" descr=""/>
          <p:cNvPicPr/>
          <p:nvPr/>
        </p:nvPicPr>
        <p:blipFill>
          <a:blip r:embed="rId3"/>
          <a:stretch/>
        </p:blipFill>
        <p:spPr>
          <a:xfrm>
            <a:off x="661680" y="633240"/>
            <a:ext cx="1101960" cy="1112400"/>
          </a:xfrm>
          <a:prstGeom prst="rect">
            <a:avLst/>
          </a:prstGeom>
          <a:ln w="9525">
            <a:noFill/>
          </a:ln>
        </p:spPr>
      </p:pic>
      <p:sp>
        <p:nvSpPr>
          <p:cNvPr id="256" name="Ovale 17"/>
          <p:cNvSpPr/>
          <p:nvPr/>
        </p:nvSpPr>
        <p:spPr>
          <a:xfrm>
            <a:off x="7668360" y="314100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7ABBB-CEBF-4025-8BDD-DC1523384F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Num" idx="13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4864523-7626-4E01-BC85-28F052DCFC2E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825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Grafico 14"/>
          <p:cNvGraphicFramePr/>
          <p:nvPr/>
        </p:nvGraphicFramePr>
        <p:xfrm>
          <a:off x="2339640" y="1025640"/>
          <a:ext cx="439200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6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TRASPORTO PUBBLICO LO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llaDiTesto 29"/>
          <p:cNvSpPr/>
          <p:nvPr/>
        </p:nvSpPr>
        <p:spPr>
          <a:xfrm>
            <a:off x="1907640" y="620640"/>
            <a:ext cx="5904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(Risponde chi dichiara di utilizzare poco i mezzi pubbli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Per quali motivi utilizza così poco i trasporti pubblic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661680" y="633240"/>
            <a:ext cx="1101960" cy="1112400"/>
          </a:xfrm>
          <a:prstGeom prst="rect">
            <a:avLst/>
          </a:prstGeom>
          <a:ln w="9525">
            <a:noFill/>
          </a:ln>
        </p:spPr>
      </p:pic>
      <p:sp>
        <p:nvSpPr>
          <p:cNvPr id="266" name="Ovale 15"/>
          <p:cNvSpPr/>
          <p:nvPr/>
        </p:nvSpPr>
        <p:spPr>
          <a:xfrm>
            <a:off x="5652000" y="128268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Num" idx="14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AB1B22-2007-4D2B-A870-4AC81D2315B7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825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Grafico 14"/>
          <p:cNvGraphicFramePr/>
          <p:nvPr/>
        </p:nvGraphicFramePr>
        <p:xfrm>
          <a:off x="2411640" y="980640"/>
          <a:ext cx="439200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7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TRASPORTO PUBBLICO LO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llaDiTesto 29"/>
          <p:cNvSpPr/>
          <p:nvPr/>
        </p:nvSpPr>
        <p:spPr>
          <a:xfrm>
            <a:off x="1907640" y="620640"/>
            <a:ext cx="7056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(Risponde chi dichiara di utilizzare poco i mezzi pubbli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li dei seguenti interventi la spingerebbe ad utilizzare più spesso il trasporto pubblico nella sua città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3"/>
          <a:stretch/>
        </p:blipFill>
        <p:spPr>
          <a:xfrm>
            <a:off x="661680" y="633240"/>
            <a:ext cx="1101960" cy="1112400"/>
          </a:xfrm>
          <a:prstGeom prst="rect">
            <a:avLst/>
          </a:prstGeom>
          <a:ln w="9525">
            <a:noFill/>
          </a:ln>
        </p:spPr>
      </p:pic>
      <p:sp>
        <p:nvSpPr>
          <p:cNvPr id="276" name="Ovale 15"/>
          <p:cNvSpPr/>
          <p:nvPr/>
        </p:nvSpPr>
        <p:spPr>
          <a:xfrm>
            <a:off x="5652000" y="208008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CasellaDiTesto 8"/>
          <p:cNvSpPr/>
          <p:nvPr/>
        </p:nvSpPr>
        <p:spPr>
          <a:xfrm>
            <a:off x="2051640" y="2205000"/>
            <a:ext cx="5904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Con che frequenza utilizza la bicicletta per spostarsi in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1500 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GLI SPOSTAMENTI IN CITTA’ IN BICICL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Grafico 21"/>
          <p:cNvGraphicFramePr/>
          <p:nvPr/>
        </p:nvGraphicFramePr>
        <p:xfrm>
          <a:off x="1274400" y="2475720"/>
          <a:ext cx="748836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285" name="Picture 2" descr=""/>
          <p:cNvPicPr/>
          <p:nvPr/>
        </p:nvPicPr>
        <p:blipFill>
          <a:blip r:embed="rId3"/>
          <a:stretch/>
        </p:blipFill>
        <p:spPr>
          <a:xfrm>
            <a:off x="829440" y="665640"/>
            <a:ext cx="1079640" cy="988200"/>
          </a:xfrm>
          <a:prstGeom prst="rect">
            <a:avLst/>
          </a:prstGeom>
          <a:ln w="9525">
            <a:noFill/>
          </a:ln>
        </p:spPr>
      </p:pic>
      <p:sp>
        <p:nvSpPr>
          <p:cNvPr id="286" name="Ovale 17"/>
          <p:cNvSpPr/>
          <p:nvPr/>
        </p:nvSpPr>
        <p:spPr>
          <a:xfrm>
            <a:off x="7395120" y="251136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7D4A0-393C-440D-957C-1A58C0E1FC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Grafico 14"/>
          <p:cNvGraphicFramePr/>
          <p:nvPr/>
        </p:nvGraphicFramePr>
        <p:xfrm>
          <a:off x="2283120" y="984240"/>
          <a:ext cx="532872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8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Num" idx="15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8DC454C-1999-4551-8FF2-DFD86E390C6F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316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asellaDiTesto 29"/>
          <p:cNvSpPr/>
          <p:nvPr/>
        </p:nvSpPr>
        <p:spPr>
          <a:xfrm>
            <a:off x="1907640" y="694440"/>
            <a:ext cx="6696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(Risponde chi dichiara di utilizzare poco le bicicletta) Quali dei seguenti interventi la spingerebbe ad utilizzare più spesso la bicicletta per i suoi spostamenti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GLI SPOSTAMENTI IN CITTA’ IN BICICL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3"/>
          <a:stretch/>
        </p:blipFill>
        <p:spPr>
          <a:xfrm>
            <a:off x="789480" y="642600"/>
            <a:ext cx="1079640" cy="988200"/>
          </a:xfrm>
          <a:prstGeom prst="rect">
            <a:avLst/>
          </a:prstGeom>
          <a:ln w="9525">
            <a:noFill/>
          </a:ln>
        </p:spPr>
      </p:pic>
      <p:sp>
        <p:nvSpPr>
          <p:cNvPr id="296" name="Ovale 17"/>
          <p:cNvSpPr/>
          <p:nvPr/>
        </p:nvSpPr>
        <p:spPr>
          <a:xfrm>
            <a:off x="6111000" y="157968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Num" idx="16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25FCF52-A8EE-4089-8A3E-6BF7ECA6847B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268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ttangolo arrotondato 15"/>
          <p:cNvSpPr/>
          <p:nvPr/>
        </p:nvSpPr>
        <p:spPr>
          <a:xfrm>
            <a:off x="898920" y="220536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tangolo arrotondato 16"/>
          <p:cNvSpPr/>
          <p:nvPr/>
        </p:nvSpPr>
        <p:spPr>
          <a:xfrm>
            <a:off x="6732360" y="220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7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Grafico 35"/>
          <p:cNvGraphicFramePr/>
          <p:nvPr/>
        </p:nvGraphicFramePr>
        <p:xfrm>
          <a:off x="3131280" y="246708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05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GLI SPOSTAMENTI IN CITTA’ IN BICICL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826920" y="692640"/>
            <a:ext cx="1304280" cy="1193760"/>
          </a:xfrm>
          <a:prstGeom prst="rect">
            <a:avLst/>
          </a:prstGeom>
          <a:ln w="9525">
            <a:noFill/>
          </a:ln>
        </p:spPr>
      </p:pic>
      <p:sp>
        <p:nvSpPr>
          <p:cNvPr id="307" name="CasellaDiTesto 22"/>
          <p:cNvSpPr/>
          <p:nvPr/>
        </p:nvSpPr>
        <p:spPr>
          <a:xfrm>
            <a:off x="2123640" y="694440"/>
            <a:ext cx="6696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(Risponde chi dichiara di utilizzare la biciclet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In che misura pensa che nella sua città la viabilità sia gestita pensando anche alla sicurezza dei ciclist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Num" idx="17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F61DBF7-A177-4B31-BD57-7BCC863A757E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Grafico 14"/>
          <p:cNvGraphicFramePr/>
          <p:nvPr/>
        </p:nvGraphicFramePr>
        <p:xfrm>
          <a:off x="2627640" y="1033560"/>
          <a:ext cx="4392000" cy="5255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1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CAR POO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llaDiTesto 29"/>
          <p:cNvSpPr/>
          <p:nvPr/>
        </p:nvSpPr>
        <p:spPr>
          <a:xfrm>
            <a:off x="1907640" y="620640"/>
            <a:ext cx="62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Lei sarebbe disposto a condividere il viaggio in auto per andare al lavoro (o a scuola) con altre pers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3"/>
          <a:stretch/>
        </p:blipFill>
        <p:spPr>
          <a:xfrm>
            <a:off x="826920" y="692640"/>
            <a:ext cx="1079640" cy="821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asellaDiTesto 9"/>
          <p:cNvSpPr/>
          <p:nvPr/>
        </p:nvSpPr>
        <p:spPr>
          <a:xfrm>
            <a:off x="684360" y="1139040"/>
            <a:ext cx="5616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Metodologia e Campione</a:t>
            </a:r>
            <a:r>
              <a:rPr b="0" lang="it-IT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rofilo dei camp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a6a6a6"/>
                </a:solidFill>
                <a:latin typeface="Malgun Gothic"/>
                <a:ea typeface="Malgun Gothic"/>
              </a:rPr>
              <a:t>	</a:t>
            </a:r>
            <a:r>
              <a:rPr b="0" lang="it-IT" sz="1800" spc="-1" strike="noStrike">
                <a:solidFill>
                  <a:srgbClr val="a6a6a6"/>
                </a:solidFill>
                <a:latin typeface="Malgun Gothic"/>
                <a:ea typeface="Malgun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sellaDiTesto 10"/>
          <p:cNvSpPr/>
          <p:nvPr/>
        </p:nvSpPr>
        <p:spPr>
          <a:xfrm>
            <a:off x="5724000" y="1124640"/>
            <a:ext cx="6472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9"/>
          <p:cNvSpPr/>
          <p:nvPr/>
        </p:nvSpPr>
        <p:spPr>
          <a:xfrm>
            <a:off x="4381920" y="6510240"/>
            <a:ext cx="309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900" spc="-1" strike="noStrike">
                <a:solidFill>
                  <a:srgbClr val="595959"/>
                </a:solidFill>
                <a:latin typeface="Arial"/>
              </a:rPr>
              <a:t>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icture 4"/>
          <p:cNvSpPr/>
          <p:nvPr/>
        </p:nvSpPr>
        <p:spPr>
          <a:xfrm>
            <a:off x="175320" y="3285000"/>
            <a:ext cx="503640" cy="5025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9525">
            <a:solidFill>
              <a:srgbClr val="ffffff"/>
            </a:solidFill>
            <a:round/>
          </a:ln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icture 3"/>
          <p:cNvSpPr/>
          <p:nvPr/>
        </p:nvSpPr>
        <p:spPr>
          <a:xfrm>
            <a:off x="251640" y="2502000"/>
            <a:ext cx="431640" cy="45288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icture 2"/>
          <p:cNvSpPr/>
          <p:nvPr/>
        </p:nvSpPr>
        <p:spPr>
          <a:xfrm>
            <a:off x="212040" y="1628640"/>
            <a:ext cx="503640" cy="46008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Num" idx="18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471873-FFB1-4D4B-99B9-2AA49A6238A8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ttangolo arrotondato 15"/>
          <p:cNvSpPr/>
          <p:nvPr/>
        </p:nvSpPr>
        <p:spPr>
          <a:xfrm>
            <a:off x="898920" y="191304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7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ttangolo arrotondato 16"/>
          <p:cNvSpPr/>
          <p:nvPr/>
        </p:nvSpPr>
        <p:spPr>
          <a:xfrm>
            <a:off x="6588360" y="184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9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Grafico 35"/>
          <p:cNvGraphicFramePr/>
          <p:nvPr/>
        </p:nvGraphicFramePr>
        <p:xfrm>
          <a:off x="2940120" y="238860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25" name="CasellaDiTesto 22"/>
          <p:cNvSpPr/>
          <p:nvPr/>
        </p:nvSpPr>
        <p:spPr>
          <a:xfrm>
            <a:off x="2123640" y="694440"/>
            <a:ext cx="6696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esto sistema di condivisione della auto private viene definito Car Pooling. In che misura pensa che il Car Pooling possa essere un elemento importante per ridurre il traffico e l’inquinamento della sua città nei prossimi ann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CAR POO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826920" y="692640"/>
            <a:ext cx="1079640" cy="821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Num" idx="19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BCDEBF4-24AE-4C31-974D-8091A63ED060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asellaDiTesto 13"/>
          <p:cNvSpPr/>
          <p:nvPr/>
        </p:nvSpPr>
        <p:spPr>
          <a:xfrm>
            <a:off x="2552760" y="620640"/>
            <a:ext cx="65908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Lei ha mai sentito parlare del Bike Sharing, il servizio di noleggio biciclette messo a disposizione dei cittadini, che possono prelevarle dalle stazioni in diversi punti della città per effettuare brevi spostament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llaDiTesto 23"/>
          <p:cNvSpPr/>
          <p:nvPr/>
        </p:nvSpPr>
        <p:spPr>
          <a:xfrm>
            <a:off x="683640" y="335088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In che misura pensa che il Bike Sharing possa essere un elemento importante per ridurre il traffico e l’inquinamento della sua città nei prossimi ann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Grafico 41"/>
          <p:cNvGraphicFramePr/>
          <p:nvPr/>
        </p:nvGraphicFramePr>
        <p:xfrm>
          <a:off x="2843640" y="1196640"/>
          <a:ext cx="4247640" cy="21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35" name="Grafico 47"/>
          <p:cNvGraphicFramePr/>
          <p:nvPr/>
        </p:nvGraphicFramePr>
        <p:xfrm>
          <a:off x="3132000" y="3645000"/>
          <a:ext cx="3250440" cy="266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336" name="Rettangolo arrotondato 48"/>
          <p:cNvSpPr/>
          <p:nvPr/>
        </p:nvSpPr>
        <p:spPr>
          <a:xfrm>
            <a:off x="684360" y="400500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6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ttangolo arrotondato 49"/>
          <p:cNvSpPr/>
          <p:nvPr/>
        </p:nvSpPr>
        <p:spPr>
          <a:xfrm>
            <a:off x="6516360" y="4077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3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asellaDiTesto 22"/>
          <p:cNvSpPr/>
          <p:nvPr/>
        </p:nvSpPr>
        <p:spPr>
          <a:xfrm>
            <a:off x="826920" y="6093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BIKE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4"/>
          <a:stretch/>
        </p:blipFill>
        <p:spPr>
          <a:xfrm>
            <a:off x="764280" y="658440"/>
            <a:ext cx="1728360" cy="123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Num" idx="20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52F3003-4E94-47BB-9348-96E9ACF6E57A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CasellaDiTesto 13"/>
          <p:cNvSpPr/>
          <p:nvPr/>
        </p:nvSpPr>
        <p:spPr>
          <a:xfrm>
            <a:off x="2552760" y="620640"/>
            <a:ext cx="65908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Lei ha mai sentito parlare del Car Sharing, il servizio di noleggio auto su prenotazione messo a disposizione dei cittadini, che possono usare l’auto per brevi spostamenti à per poi lasciarla nei parcheggi dell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asellaDiTesto 23"/>
          <p:cNvSpPr/>
          <p:nvPr/>
        </p:nvSpPr>
        <p:spPr>
          <a:xfrm>
            <a:off x="683640" y="335088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In che misura pensa che il Car Sharing possa essere un elemento importante per ridurre il traffico e l’inquinamento della sua città nei prossimi ann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Grafico 41"/>
          <p:cNvGraphicFramePr/>
          <p:nvPr/>
        </p:nvGraphicFramePr>
        <p:xfrm>
          <a:off x="2843640" y="1196640"/>
          <a:ext cx="4247640" cy="21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48" name="Grafico 47"/>
          <p:cNvGraphicFramePr/>
          <p:nvPr/>
        </p:nvGraphicFramePr>
        <p:xfrm>
          <a:off x="3132000" y="3645000"/>
          <a:ext cx="3250440" cy="266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349" name="Rettangolo arrotondato 48"/>
          <p:cNvSpPr/>
          <p:nvPr/>
        </p:nvSpPr>
        <p:spPr>
          <a:xfrm>
            <a:off x="684360" y="400500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64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ttangolo arrotondato 49"/>
          <p:cNvSpPr/>
          <p:nvPr/>
        </p:nvSpPr>
        <p:spPr>
          <a:xfrm>
            <a:off x="6516360" y="400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6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asellaDiTesto 22"/>
          <p:cNvSpPr/>
          <p:nvPr/>
        </p:nvSpPr>
        <p:spPr>
          <a:xfrm>
            <a:off x="826920" y="6093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CAR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4"/>
          <a:stretch/>
        </p:blipFill>
        <p:spPr>
          <a:xfrm>
            <a:off x="826920" y="620640"/>
            <a:ext cx="1656000" cy="933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Num" idx="21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7A938A2-3F65-43F6-8EDC-71A9FB815DE4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CasellaDiTesto 13"/>
          <p:cNvSpPr/>
          <p:nvPr/>
        </p:nvSpPr>
        <p:spPr>
          <a:xfrm>
            <a:off x="2552760" y="620640"/>
            <a:ext cx="65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Per i suoi spostamenti, in auto o con mezzi pubblici, le capita di utilizzare le nuove tecnologie e le App del suo cellulare per ottenere informazioni sulla mobili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asellaDiTesto 23"/>
          <p:cNvSpPr/>
          <p:nvPr/>
        </p:nvSpPr>
        <p:spPr>
          <a:xfrm>
            <a:off x="683640" y="3350880"/>
            <a:ext cx="8064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Secondo Lei quanto sono utili per i cittadini queste nuove tecnologie e applicazioni di infomobili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Grafico 41"/>
          <p:cNvGraphicFramePr/>
          <p:nvPr/>
        </p:nvGraphicFramePr>
        <p:xfrm>
          <a:off x="2843640" y="1196640"/>
          <a:ext cx="4247640" cy="21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61" name="Grafico 47"/>
          <p:cNvGraphicFramePr/>
          <p:nvPr/>
        </p:nvGraphicFramePr>
        <p:xfrm>
          <a:off x="3132000" y="3645000"/>
          <a:ext cx="3250440" cy="266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362" name="Rettangolo arrotondato 48"/>
          <p:cNvSpPr/>
          <p:nvPr/>
        </p:nvSpPr>
        <p:spPr>
          <a:xfrm>
            <a:off x="899640" y="400104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8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ttangolo arrotondato 49"/>
          <p:cNvSpPr/>
          <p:nvPr/>
        </p:nvSpPr>
        <p:spPr>
          <a:xfrm>
            <a:off x="6588360" y="40176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asellaDiTesto 22"/>
          <p:cNvSpPr/>
          <p:nvPr/>
        </p:nvSpPr>
        <p:spPr>
          <a:xfrm>
            <a:off x="826920" y="6093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INFOMOBILITA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4"/>
          <a:stretch/>
        </p:blipFill>
        <p:spPr>
          <a:xfrm>
            <a:off x="826920" y="692640"/>
            <a:ext cx="1506240" cy="847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Grafico 14"/>
          <p:cNvGraphicFramePr/>
          <p:nvPr/>
        </p:nvGraphicFramePr>
        <p:xfrm>
          <a:off x="2195280" y="1046520"/>
          <a:ext cx="532872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6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Num" idx="22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805D43-5001-49FB-9017-35EA1020E195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316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asellaDiTesto 29"/>
          <p:cNvSpPr/>
          <p:nvPr/>
        </p:nvSpPr>
        <p:spPr>
          <a:xfrm>
            <a:off x="2195640" y="620640"/>
            <a:ext cx="640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Se lei fosse l'Assessore alla Viabilità della sua città, quali tra queste decisioni metterebbe come misure prioritarie del suo programma?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E PRIORITA’ IN TEMA DI MOBILITA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://www.techeconomy.it/wp-content/uploads/2014/10/smart-cities.jpg"/>
          <p:cNvPicPr/>
          <p:nvPr/>
        </p:nvPicPr>
        <p:blipFill>
          <a:blip r:embed="rId3"/>
          <a:stretch/>
        </p:blipFill>
        <p:spPr>
          <a:xfrm>
            <a:off x="826920" y="620640"/>
            <a:ext cx="1367640" cy="1025640"/>
          </a:xfrm>
          <a:prstGeom prst="rect">
            <a:avLst/>
          </a:prstGeom>
          <a:ln w="0">
            <a:noFill/>
          </a:ln>
        </p:spPr>
      </p:pic>
      <p:sp>
        <p:nvSpPr>
          <p:cNvPr id="376" name="CasellaDiTesto 17"/>
          <p:cNvSpPr/>
          <p:nvPr/>
        </p:nvSpPr>
        <p:spPr>
          <a:xfrm>
            <a:off x="2412360" y="6409080"/>
            <a:ext cx="20880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it-IT" sz="900" spc="-1" strike="noStrike">
                <a:solidFill>
                  <a:srgbClr val="000000"/>
                </a:solidFill>
                <a:latin typeface="Calibri"/>
              </a:rPr>
              <a:t>*La domanda prevede risposta multip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e 16"/>
          <p:cNvSpPr/>
          <p:nvPr/>
        </p:nvSpPr>
        <p:spPr>
          <a:xfrm>
            <a:off x="6876360" y="160956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6560" y="1916280"/>
            <a:ext cx="81370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PROFILO DEL CAMPIONE</a:t>
            </a:r>
            <a:endParaRPr b="0" lang="it-IT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icture 4"/>
          <p:cNvSpPr/>
          <p:nvPr/>
        </p:nvSpPr>
        <p:spPr>
          <a:xfrm>
            <a:off x="1043640" y="3429000"/>
            <a:ext cx="3626640" cy="27198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ttangolo arrotondato 15"/>
          <p:cNvSpPr/>
          <p:nvPr/>
        </p:nvSpPr>
        <p:spPr>
          <a:xfrm>
            <a:off x="5076000" y="838080"/>
            <a:ext cx="3816000" cy="2217240"/>
          </a:xfrm>
          <a:prstGeom prst="roundRect">
            <a:avLst>
              <a:gd name="adj" fmla="val 6846"/>
            </a:avLst>
          </a:prstGeom>
          <a:noFill/>
          <a:ln>
            <a:solidFill>
              <a:srgbClr val="ffc000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81" name="Rettangolo arrotondato 14"/>
          <p:cNvSpPr/>
          <p:nvPr/>
        </p:nvSpPr>
        <p:spPr>
          <a:xfrm>
            <a:off x="827640" y="967680"/>
            <a:ext cx="3816000" cy="1800000"/>
          </a:xfrm>
          <a:prstGeom prst="roundRect">
            <a:avLst>
              <a:gd name="adj" fmla="val 6846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642960" y="44640"/>
            <a:ext cx="6955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it-IT" sz="2400" spc="-1" strike="noStrike">
                <a:solidFill>
                  <a:srgbClr val="3366cc"/>
                </a:solidFill>
                <a:latin typeface="Verdana"/>
              </a:rPr>
              <a:t>PROFILO DEL CAMP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asellaDiTesto 20"/>
          <p:cNvSpPr/>
          <p:nvPr/>
        </p:nvSpPr>
        <p:spPr>
          <a:xfrm>
            <a:off x="5478840" y="694080"/>
            <a:ext cx="48744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400" spc="-1" strike="noStrike">
                <a:solidFill>
                  <a:srgbClr val="000000"/>
                </a:solidFill>
                <a:latin typeface="Calibri"/>
              </a:rPr>
              <a:t>ET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asellaDiTesto 24"/>
          <p:cNvSpPr/>
          <p:nvPr/>
        </p:nvSpPr>
        <p:spPr>
          <a:xfrm>
            <a:off x="1331640" y="803880"/>
            <a:ext cx="201600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400" spc="-1" strike="noStrike">
                <a:solidFill>
                  <a:srgbClr val="000000"/>
                </a:solidFill>
                <a:latin typeface="Calibri"/>
              </a:rPr>
              <a:t>S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e 31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Text Box 4"/>
          <p:cNvSpPr/>
          <p:nvPr/>
        </p:nvSpPr>
        <p:spPr>
          <a:xfrm flipV="1" rot="5400000">
            <a:off x="-2766600" y="3482640"/>
            <a:ext cx="610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PROFILO DEL CAMP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icture 4"/>
          <p:cNvSpPr/>
          <p:nvPr/>
        </p:nvSpPr>
        <p:spPr>
          <a:xfrm>
            <a:off x="107640" y="174240"/>
            <a:ext cx="403560" cy="4028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9525">
            <a:solidFill>
              <a:srgbClr val="ffffff"/>
            </a:solidFill>
            <a:round/>
          </a:ln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Grafico 18"/>
          <p:cNvGraphicFramePr/>
          <p:nvPr/>
        </p:nvGraphicFramePr>
        <p:xfrm>
          <a:off x="1115640" y="1111680"/>
          <a:ext cx="3384000" cy="136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89" name="Grafico 22"/>
          <p:cNvGraphicFramePr/>
          <p:nvPr/>
        </p:nvGraphicFramePr>
        <p:xfrm>
          <a:off x="5724000" y="895680"/>
          <a:ext cx="2736000" cy="20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390" name="Grafico 21"/>
          <p:cNvGraphicFramePr/>
          <p:nvPr/>
        </p:nvGraphicFramePr>
        <p:xfrm>
          <a:off x="3287880" y="3592800"/>
          <a:ext cx="2736000" cy="237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391" name="Rettangolo arrotondato 25"/>
          <p:cNvSpPr/>
          <p:nvPr/>
        </p:nvSpPr>
        <p:spPr>
          <a:xfrm>
            <a:off x="2711880" y="3391200"/>
            <a:ext cx="3816000" cy="2577240"/>
          </a:xfrm>
          <a:prstGeom prst="roundRect">
            <a:avLst>
              <a:gd name="adj" fmla="val 6846"/>
            </a:avLst>
          </a:prstGeom>
          <a:noFill/>
          <a:ln>
            <a:solidFill>
              <a:srgbClr val="1f497d">
                <a:lumMod val="60000"/>
                <a:lumOff val="40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92" name="CasellaDiTesto 26"/>
          <p:cNvSpPr/>
          <p:nvPr/>
        </p:nvSpPr>
        <p:spPr>
          <a:xfrm>
            <a:off x="3254400" y="3213000"/>
            <a:ext cx="281592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400" spc="-1" strike="noStrike">
                <a:solidFill>
                  <a:srgbClr val="000000"/>
                </a:solidFill>
                <a:latin typeface="Calibri"/>
              </a:rPr>
              <a:t>COMPONENTI NUCLEO FAMIGLI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B55E8-A3C2-418B-8AA7-80420E7C9C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642960" y="44640"/>
            <a:ext cx="6955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it-IT" sz="2400" spc="-1" strike="noStrike">
                <a:solidFill>
                  <a:srgbClr val="3366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9" name="Picture 15" descr="C:\Users\edit233\Desktop\Versione PPT\Clip07.png"/>
          <p:cNvPicPr/>
          <p:nvPr/>
        </p:nvPicPr>
        <p:blipFill>
          <a:blip r:embed="rId1"/>
          <a:stretch/>
        </p:blipFill>
        <p:spPr>
          <a:xfrm>
            <a:off x="94320" y="169920"/>
            <a:ext cx="402120" cy="402120"/>
          </a:xfrm>
          <a:prstGeom prst="rect">
            <a:avLst/>
          </a:prstGeom>
          <a:ln w="9525">
            <a:noFill/>
          </a:ln>
        </p:spPr>
      </p:pic>
      <p:sp>
        <p:nvSpPr>
          <p:cNvPr id="14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METODOLOGIA E CAMP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9"/>
          <p:cNvSpPr/>
          <p:nvPr/>
        </p:nvSpPr>
        <p:spPr>
          <a:xfrm>
            <a:off x="827640" y="978480"/>
            <a:ext cx="799236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 presente documento si espongono i risultati di un’indagine effettuata per ANCI (Associazione Nazionale Comuni Italiani) volta ad analizzare le attività sulla Mobilità sostenibile promosse e attivate nelle grandi cit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ricerca è stata realizzata attraverso la somministrazione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1.500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terviste telefoniche, somministrat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al 5 Giugno al 10 Giugno 201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con metodologia CATI (Computer Aided Telephone Interviewing) ad un campione rappresentativo dei cittadini maggiorenni residenti nelle città metropolitane (Roma, Milano, Napoli, Torino, Bari, Firenze, Bologna, Genova, Venezia, Reggio Calabria, Catan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71600" algn="just">
              <a:lnSpc>
                <a:spcPct val="150000"/>
              </a:lnSpc>
              <a:spcBef>
                <a:spcPts val="4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biettivo principale dell’indagine è quello di analizzare il fenomeno della Mobilità sostenibile, così come percepito dall’Opinione Pubblica, cioè dai cittadini residenti nelle città metropolit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47C21-635C-4655-B5BA-F35544C5C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1916280"/>
            <a:ext cx="81370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it-IT" sz="3600" spc="-1" strike="noStrike">
                <a:solidFill>
                  <a:srgbClr val="000000"/>
                </a:solidFill>
                <a:latin typeface="Verdana"/>
              </a:rPr>
              <a:t>DETTAGLIO DEI RISULTATI</a:t>
            </a:r>
            <a:endParaRPr b="0" lang="it-IT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icture 3"/>
          <p:cNvSpPr/>
          <p:nvPr/>
        </p:nvSpPr>
        <p:spPr>
          <a:xfrm>
            <a:off x="1043640" y="2997000"/>
            <a:ext cx="2882880" cy="30247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Num" idx="8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6C8CB43-DAA9-428A-AAA5-E074A6DD2407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asellaDiTesto 13"/>
          <p:cNvSpPr/>
          <p:nvPr/>
        </p:nvSpPr>
        <p:spPr>
          <a:xfrm>
            <a:off x="684360" y="692640"/>
            <a:ext cx="828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le mezzo utilizza maggiormente per gli spostamenti all’interno d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sellaDiTesto 32"/>
          <p:cNvSpPr/>
          <p:nvPr/>
        </p:nvSpPr>
        <p:spPr>
          <a:xfrm>
            <a:off x="605160" y="60141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E ABITUDINI DI SPOST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Grafico 14"/>
          <p:cNvGraphicFramePr/>
          <p:nvPr/>
        </p:nvGraphicFramePr>
        <p:xfrm>
          <a:off x="2123640" y="1085400"/>
          <a:ext cx="439200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152" name="Picture 4" descr="http://www.quotidianopiemontese.it/wp-content/uploads/2012/08/bici-icona.jpg"/>
          <p:cNvPicPr/>
          <p:nvPr/>
        </p:nvPicPr>
        <p:blipFill>
          <a:blip r:embed="rId3"/>
          <a:stretch/>
        </p:blipFill>
        <p:spPr>
          <a:xfrm>
            <a:off x="6012000" y="4201200"/>
            <a:ext cx="1142640" cy="856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ttp://www.beerattraction.it/upload/IMG_STANDARD/BUS.GIF"/>
          <p:cNvPicPr/>
          <p:nvPr/>
        </p:nvPicPr>
        <p:blipFill>
          <a:blip r:embed="rId4"/>
          <a:stretch/>
        </p:blipFill>
        <p:spPr>
          <a:xfrm>
            <a:off x="6359760" y="129564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http://cdns2.freepik.com/foto-gratuito/_318-44334.jpg"/>
          <p:cNvPicPr/>
          <p:nvPr/>
        </p:nvPicPr>
        <p:blipFill>
          <a:blip r:embed="rId5"/>
          <a:srcRect l="0" t="0" r="41052" b="0"/>
          <a:stretch/>
        </p:blipFill>
        <p:spPr>
          <a:xfrm>
            <a:off x="6444360" y="5281200"/>
            <a:ext cx="431640" cy="73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upload.wikimedia.org/wikipedia/commons/thumb/4/4b/Italian_traffic_signs_-_icona_auto.svg/120px-Italian_traffic_signs_-_icona_auto.svg.png"/>
          <p:cNvPicPr/>
          <p:nvPr/>
        </p:nvPicPr>
        <p:blipFill>
          <a:blip r:embed="rId6"/>
          <a:srcRect l="6299" t="12598" r="6299" b="11811"/>
          <a:stretch/>
        </p:blipFill>
        <p:spPr>
          <a:xfrm>
            <a:off x="6228000" y="2206800"/>
            <a:ext cx="998640" cy="8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cdns2.freepik.com/photos-libre/_318-467.jpg"/>
          <p:cNvPicPr/>
          <p:nvPr/>
        </p:nvPicPr>
        <p:blipFill>
          <a:blip r:embed="rId7"/>
          <a:stretch/>
        </p:blipFill>
        <p:spPr>
          <a:xfrm>
            <a:off x="6156000" y="3345480"/>
            <a:ext cx="1079640" cy="703440"/>
          </a:xfrm>
          <a:prstGeom prst="rect">
            <a:avLst/>
          </a:prstGeom>
          <a:ln w="0">
            <a:noFill/>
          </a:ln>
        </p:spPr>
      </p:pic>
      <p:sp>
        <p:nvSpPr>
          <p:cNvPr id="157" name="Ovale 23"/>
          <p:cNvSpPr/>
          <p:nvPr/>
        </p:nvSpPr>
        <p:spPr>
          <a:xfrm>
            <a:off x="5569200" y="148644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Ovale 29"/>
          <p:cNvSpPr/>
          <p:nvPr/>
        </p:nvSpPr>
        <p:spPr>
          <a:xfrm>
            <a:off x="5580000" y="247968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Ovale 31"/>
          <p:cNvSpPr/>
          <p:nvPr/>
        </p:nvSpPr>
        <p:spPr>
          <a:xfrm>
            <a:off x="4284000" y="556920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Num" idx="9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E3C19D-46CD-4E91-BB28-3FD61D22108F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asellaDiTesto 13"/>
          <p:cNvSpPr/>
          <p:nvPr/>
        </p:nvSpPr>
        <p:spPr>
          <a:xfrm>
            <a:off x="684360" y="692640"/>
            <a:ext cx="828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Per quale motivo utilizza maggiormente questo mezz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E ABITUDINI DI SPOST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Grafico 14"/>
          <p:cNvGraphicFramePr/>
          <p:nvPr/>
        </p:nvGraphicFramePr>
        <p:xfrm>
          <a:off x="1907640" y="1062720"/>
          <a:ext cx="439200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168" name="Picture 12" descr="http://cdns2.freepik.com/foto-gratuito/_318-44334.jpg"/>
          <p:cNvPicPr/>
          <p:nvPr/>
        </p:nvPicPr>
        <p:blipFill>
          <a:blip r:embed="rId3"/>
          <a:srcRect l="0" t="0" r="41052" b="0"/>
          <a:stretch/>
        </p:blipFill>
        <p:spPr>
          <a:xfrm>
            <a:off x="6228360" y="4372560"/>
            <a:ext cx="431640" cy="732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4"/>
          <a:stretch/>
        </p:blipFill>
        <p:spPr>
          <a:xfrm>
            <a:off x="6084000" y="1338840"/>
            <a:ext cx="697680" cy="69768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23" descr=""/>
          <p:cNvPicPr/>
          <p:nvPr/>
        </p:nvPicPr>
        <p:blipFill>
          <a:blip r:embed="rId5"/>
          <a:stretch/>
        </p:blipFill>
        <p:spPr>
          <a:xfrm>
            <a:off x="5990400" y="3350160"/>
            <a:ext cx="754920" cy="75600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20" descr=""/>
          <p:cNvPicPr/>
          <p:nvPr/>
        </p:nvPicPr>
        <p:blipFill>
          <a:blip r:embed="rId6"/>
          <a:stretch/>
        </p:blipFill>
        <p:spPr>
          <a:xfrm>
            <a:off x="5990400" y="2268720"/>
            <a:ext cx="893160" cy="888480"/>
          </a:xfrm>
          <a:prstGeom prst="rect">
            <a:avLst/>
          </a:prstGeom>
          <a:ln w="9525">
            <a:noFill/>
          </a:ln>
        </p:spPr>
      </p:pic>
      <p:sp>
        <p:nvSpPr>
          <p:cNvPr id="172" name="Ovale 19"/>
          <p:cNvSpPr/>
          <p:nvPr/>
        </p:nvSpPr>
        <p:spPr>
          <a:xfrm>
            <a:off x="5353200" y="146412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Num" idx="10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54B7AEA-9200-4F97-8C32-36B4AB6E5FF5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asellaDiTesto 13"/>
          <p:cNvSpPr/>
          <p:nvPr/>
        </p:nvSpPr>
        <p:spPr>
          <a:xfrm>
            <a:off x="1979640" y="836640"/>
            <a:ext cx="4319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nte automobili ha a disposizione in famiglia, n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32"/>
          <p:cNvSpPr/>
          <p:nvPr/>
        </p:nvSpPr>
        <p:spPr>
          <a:xfrm>
            <a:off x="683640" y="6021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UTILIZZO DELL’AUTO PRIV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Grafico 14"/>
          <p:cNvGraphicFramePr/>
          <p:nvPr/>
        </p:nvGraphicFramePr>
        <p:xfrm>
          <a:off x="971640" y="1340640"/>
          <a:ext cx="741636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181" name="Picture 10" descr="http://upload.wikimedia.org/wikipedia/commons/thumb/4/4b/Italian_traffic_signs_-_icona_auto.svg/120px-Italian_traffic_signs_-_icona_auto.svg.png"/>
          <p:cNvPicPr/>
          <p:nvPr/>
        </p:nvPicPr>
        <p:blipFill>
          <a:blip r:embed="rId3"/>
          <a:srcRect l="6299" t="12598" r="6299" b="11811"/>
          <a:stretch/>
        </p:blipFill>
        <p:spPr>
          <a:xfrm>
            <a:off x="683640" y="620640"/>
            <a:ext cx="998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CasellaDiTesto 23"/>
          <p:cNvSpPr/>
          <p:nvPr/>
        </p:nvSpPr>
        <p:spPr>
          <a:xfrm>
            <a:off x="756360" y="3319560"/>
            <a:ext cx="4319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Mediamente quante ore passa ogni giorno in au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Grafico 25"/>
          <p:cNvGraphicFramePr/>
          <p:nvPr/>
        </p:nvGraphicFramePr>
        <p:xfrm>
          <a:off x="1331640" y="3789000"/>
          <a:ext cx="7092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Num" idx="11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301F484-61EA-4BA9-8336-DDB29CA46DBE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asellaDiTesto 13"/>
          <p:cNvSpPr/>
          <p:nvPr/>
        </p:nvSpPr>
        <p:spPr>
          <a:xfrm>
            <a:off x="827640" y="620640"/>
            <a:ext cx="468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Lei possiede o dispone di un’auto elettrica, ibrida, a metano o GP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32"/>
          <p:cNvSpPr/>
          <p:nvPr/>
        </p:nvSpPr>
        <p:spPr>
          <a:xfrm>
            <a:off x="683640" y="6021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209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UTILIZZO DELL’AUTO PRIV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sellaDiTesto 23"/>
          <p:cNvSpPr/>
          <p:nvPr/>
        </p:nvSpPr>
        <p:spPr>
          <a:xfrm>
            <a:off x="683640" y="328500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In che misura sarebbe propenso in futuro ad acquistare un’auto a minore impatto ambientale, cioè un’auto elettrica, ibrida, a metano o GP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Grafico 41"/>
          <p:cNvGraphicFramePr/>
          <p:nvPr/>
        </p:nvGraphicFramePr>
        <p:xfrm>
          <a:off x="827640" y="908640"/>
          <a:ext cx="4464000" cy="237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93" name="Grafico 47"/>
          <p:cNvGraphicFramePr/>
          <p:nvPr/>
        </p:nvGraphicFramePr>
        <p:xfrm>
          <a:off x="3132000" y="3645000"/>
          <a:ext cx="3250440" cy="266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194" name="Rettangolo arrotondato 48"/>
          <p:cNvSpPr/>
          <p:nvPr/>
        </p:nvSpPr>
        <p:spPr>
          <a:xfrm>
            <a:off x="971640" y="393192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5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ttangolo arrotondato 49"/>
          <p:cNvSpPr/>
          <p:nvPr/>
        </p:nvSpPr>
        <p:spPr>
          <a:xfrm>
            <a:off x="6516360" y="3861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49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ccia in giù 17"/>
          <p:cNvSpPr/>
          <p:nvPr/>
        </p:nvSpPr>
        <p:spPr>
          <a:xfrm>
            <a:off x="4163040" y="2421000"/>
            <a:ext cx="1007280" cy="791640"/>
          </a:xfrm>
          <a:prstGeom prst="downArrow">
            <a:avLst>
              <a:gd name="adj1" fmla="val 50000"/>
              <a:gd name="adj2" fmla="val 50000"/>
            </a:avLst>
          </a:prstGeom>
          <a:noFill/>
          <a:ln>
            <a:solidFill>
              <a:srgbClr val="03772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CasellaDiTesto 22"/>
          <p:cNvSpPr/>
          <p:nvPr/>
        </p:nvSpPr>
        <p:spPr>
          <a:xfrm>
            <a:off x="684360" y="292500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Num" idx="12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DADFF9-4979-43DE-B635-31DA889AB126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asellaDiTesto 13"/>
          <p:cNvSpPr/>
          <p:nvPr/>
        </p:nvSpPr>
        <p:spPr>
          <a:xfrm>
            <a:off x="755640" y="620640"/>
            <a:ext cx="838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Rispetto  a un anno fa Lei direbbe che il suo utilizzo dell’auto privata è aumentato, rimasto uguale o diminui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sellaDiTesto 32"/>
          <p:cNvSpPr/>
          <p:nvPr/>
        </p:nvSpPr>
        <p:spPr>
          <a:xfrm>
            <a:off x="683640" y="6021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UTILIZZO DELL’AUTO PRIV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sellaDiTesto 23"/>
          <p:cNvSpPr/>
          <p:nvPr/>
        </p:nvSpPr>
        <p:spPr>
          <a:xfrm>
            <a:off x="683640" y="3275640"/>
            <a:ext cx="8064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E rispetto a cinque anni fa Lei direbbe che il suo utilizzo dell’auto privata è aumentato, rimasto uguale o diminui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Grafico 30"/>
          <p:cNvGraphicFramePr/>
          <p:nvPr/>
        </p:nvGraphicFramePr>
        <p:xfrm>
          <a:off x="1475640" y="1340640"/>
          <a:ext cx="6095520" cy="143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207" name="Picture 4" descr="http://previews.123rf.com/images/ddmhzr/ddmhzr1101/ddmhzr110100192/8907056-yellow-postit-Stock-Vector-stickers-postit-sticker.jpg"/>
          <p:cNvPicPr/>
          <p:nvPr/>
        </p:nvPicPr>
        <p:blipFill>
          <a:blip r:embed="rId3"/>
          <a:srcRect l="18796" t="16777" r="19891" b="16154"/>
          <a:stretch/>
        </p:blipFill>
        <p:spPr>
          <a:xfrm>
            <a:off x="7279920" y="1279080"/>
            <a:ext cx="1225800" cy="1340640"/>
          </a:xfrm>
          <a:prstGeom prst="rect">
            <a:avLst/>
          </a:prstGeom>
          <a:ln w="0">
            <a:noFill/>
          </a:ln>
        </p:spPr>
      </p:pic>
      <p:sp>
        <p:nvSpPr>
          <p:cNvPr id="208" name="CasellaDiTesto 33"/>
          <p:cNvSpPr/>
          <p:nvPr/>
        </p:nvSpPr>
        <p:spPr>
          <a:xfrm>
            <a:off x="7089480" y="1333440"/>
            <a:ext cx="16912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al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Aumentato-Diminui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sellaDiTesto 36"/>
          <p:cNvSpPr/>
          <p:nvPr/>
        </p:nvSpPr>
        <p:spPr>
          <a:xfrm>
            <a:off x="7449840" y="211608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http://previews.123rf.com/images/ddmhzr/ddmhzr1101/ddmhzr110100192/8907056-yellow-postit-Stock-Vector-stickers-postit-sticker.jpg"/>
          <p:cNvPicPr/>
          <p:nvPr/>
        </p:nvPicPr>
        <p:blipFill>
          <a:blip r:embed="rId4"/>
          <a:srcRect l="18796" t="16777" r="19891" b="16154"/>
          <a:stretch/>
        </p:blipFill>
        <p:spPr>
          <a:xfrm>
            <a:off x="7365240" y="3843000"/>
            <a:ext cx="1225800" cy="1340640"/>
          </a:xfrm>
          <a:prstGeom prst="rect">
            <a:avLst/>
          </a:prstGeom>
          <a:ln w="0">
            <a:noFill/>
          </a:ln>
        </p:spPr>
      </p:pic>
      <p:sp>
        <p:nvSpPr>
          <p:cNvPr id="211" name="CasellaDiTesto 44"/>
          <p:cNvSpPr/>
          <p:nvPr/>
        </p:nvSpPr>
        <p:spPr>
          <a:xfrm>
            <a:off x="7174800" y="3897360"/>
            <a:ext cx="16912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al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Aumentato-Diminui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sellaDiTesto 45"/>
          <p:cNvSpPr/>
          <p:nvPr/>
        </p:nvSpPr>
        <p:spPr>
          <a:xfrm>
            <a:off x="7535160" y="468000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Grafico 42"/>
          <p:cNvGraphicFramePr/>
          <p:nvPr/>
        </p:nvGraphicFramePr>
        <p:xfrm>
          <a:off x="1475640" y="3942720"/>
          <a:ext cx="6095520" cy="143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5</TotalTime>
  <Application>LibreOffice/7.4.7.2$Linux_X86_64 LibreOffice_project/40$Build-2</Application>
  <AppVersion>15.0000</AppVersion>
  <Words>1327</Words>
  <Paragraphs>2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08:53:16Z</dcterms:created>
  <dc:creator>Pre-Installed User</dc:creator>
  <dc:description/>
  <dc:language>en-US</dc:language>
  <cp:lastModifiedBy>Francesco Botteri</cp:lastModifiedBy>
  <cp:lastPrinted>2015-02-09T15:31:46Z</cp:lastPrinted>
  <dcterms:modified xsi:type="dcterms:W3CDTF">2015-06-17T09:26:17Z</dcterms:modified>
  <cp:revision>1507</cp:revision>
  <dc:subject/>
  <dc:title>Indagine sul rapporto fra turisti e patrimonio culturale nella provincia di Rimin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26</vt:r8>
  </property>
</Properties>
</file>